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A277-F54A-4F00-88A8-B3DC2C8CFA3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C7F5-AAE2-4A94-A9B6-33A37FB21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0D86-4EA1-4829-AF1E-BC33EC4F2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9CF8-E50D-40A3-9D68-5FE7DEA88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C7DA-A0A4-43D8-8DF0-88379DE08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BD2E-7F1E-4B7C-9FA3-E6803BED2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FB1-5E33-499F-A984-B211521AA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66F0-5F6F-4A4A-A3E1-D576F7B1C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6C13-7449-471A-B150-666CEED6F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C840-E9C3-4E85-B253-70D073324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5AF-31E4-4C90-BA06-7F7366017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F186-68B5-428C-A93D-0D9E5E50D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8777-E05C-4344-BCA3-D78B9F183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BD98-E0B6-4EBE-8F74-A9B4B0245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F62-CFFB-4A19-9705-8CCC410D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D94-E61F-4C79-A588-1AE9ED9A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CFB-0EE4-4CCE-83FE-F3CC0DBB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7EE-6C80-409B-8502-CCD9D44E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14F8-5BBD-4594-A3AE-BFA6065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9015-D2EE-48C9-A562-E929DC7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02E4-CD69-404A-85FF-7AF169BB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F215-93FA-48DF-8ED3-CFE437C8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6951-9D67-4483-A202-385F701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B36-A140-4BAF-A0BB-EAC2AA28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FE95-742F-4938-9C37-4C38C51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F20-98B5-44EB-B5EA-B4F9469C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04C3-07AC-46B6-9CB2-723B714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DCAB-7632-43AA-A6F3-8631942C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60C9-330D-400B-86E8-CC7917A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9BA4-D87C-476B-B614-BDDC94D0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90FF-E70A-477C-A1FB-AA1DCE3D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303-C37C-4D44-8E67-3EAC9D3C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000-FA51-426D-8CF8-233DBEA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B3E-E804-4798-91E1-5699411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49C-A458-40D4-A39A-DF4902C4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B7E-18E2-446A-B686-7BF0290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8A7-8DB9-4C84-B7C9-5107895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768-F507-42BD-A9E0-0D9C341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F4C-88CB-4CF3-8065-70821339477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350-F539-4A0F-B269-C4526F1BC8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ntral America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6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3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Users\charles.mccreery\Documents\PacWave11\ScenarioPlots\enrg.010800120111030232926_test_0011092011150000_11.50N_087.50W_020_M9.00_s310_d15_r0090_L0631_W120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94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09/2011  16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171960" y="1122480"/>
            <a:ext cx="263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C:\Users\charles.mccreery\Documents\PacWave11\ScenarioPlots\enrg.010800120111030232926_test_0011092011150000_11.50N_087.50W_020_M9.00_s310_d15_r0090_L0631_W120_D_D_Pacific.2a.jpg"/>
          <p:cNvPicPr/>
          <p:nvPr/>
        </p:nvPicPr>
        <p:blipFill>
          <a:blip r:embed="rId1"/>
          <a:stretch/>
        </p:blipFill>
        <p:spPr>
          <a:xfrm>
            <a:off x="1447920" y="0"/>
            <a:ext cx="624816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09/2011  16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3151080" y="46702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C:\Users\charles.mccreery\Documents\PacWave11\ScenarioPlots\polygons.coast.eminmax010800120111030232926_test_0011092011150000_11.50N_087.50W_020_M9.00_s310_d15_r0090_L0631_W120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500 UTC  11.5°N 87.5°W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09/2011 at 16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482840" y="185760"/>
            <a:ext cx="60958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508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provide a fast produ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ze of the forecas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duct #01 is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hole Pacific forecast is in Product #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charles.mccreery\Documents\PacWave11\ScenarioPlots\enrg.002160420111030230601_test_0011092011150000_11.50N_087.50W_020_M8.40_s310_d15_r0090_L0283_W068_D_D_TTT.1a.jpg"/>
          <p:cNvPicPr/>
          <p:nvPr/>
        </p:nvPicPr>
        <p:blipFill>
          <a:blip r:embed="rId1"/>
          <a:stretch/>
        </p:blipFill>
        <p:spPr>
          <a:xfrm>
            <a:off x="14652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09/2011  15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62440" y="396720"/>
            <a:ext cx="263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charles.mccreery\Documents\PacWave11\ScenarioPlots\enrg.002160420111030230601_test_0011092011150000_11.50N_087.50W_020_M8.40_s310_d15_r0090_L0283_W068_D_D_TTT.2a.jpg"/>
          <p:cNvPicPr/>
          <p:nvPr/>
        </p:nvPicPr>
        <p:blipFill>
          <a:blip r:embed="rId1"/>
          <a:stretch/>
        </p:blipFill>
        <p:spPr>
          <a:xfrm>
            <a:off x="1465200" y="0"/>
            <a:ext cx="62136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09/2011  15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844640" y="395136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C:\Users\charles.mccreery\Documents\PacWave11\ScenarioPlots\polygons.coast.eminmax002160420111030230601_test_0011092011150000_11.50N_087.50W_020_M8.40_s310_d15_r0090_L0283_W068_D_D_TT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500 UTC  11.5°N 87.5°W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09/2011 at 1508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23880" y="114300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15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Users\charles.mccreery\Documents\PacWave11\ScenarioPlots\enrg.010800120111030231706_test_0011092011150000_11.50N_087.50W_020_M8.70_s310_d15_r0090_L0423_W091_D_D_Pacific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790640" y="452520"/>
            <a:ext cx="36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C:\Users\charles.mccreery\Documents\PacWave11\ScenarioPlots\enrg.010800120111030231706_test_0011092011150000_11.50N_087.50W_020_M8.70_s310_d15_r0090_L0423_W091_D_D_Pacific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09/2011  15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3081240" y="464328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:\Users\charles.mccreery\Documents\PacWave11\ScenarioPlots\polygons.coast.eminmax010800120111030231706_test_0011092011150000_11.50N_087.50W_020_M8.70_s310_d15_r0090_L0423_W091_D_D_Pacific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1500 UTC  11.5°N 87.5°W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09/2011 at 15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19:10Z</cp:lastPrinted>
  <dcterms:modified xsi:type="dcterms:W3CDTF">2011-11-01T13:21:12Z</dcterms:modified>
  <cp:revision>11</cp:revision>
  <dc:subject/>
  <dc:title>Slide 1</dc:title>
</cp:coreProperties>
</file>