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7FC0-1656-43B1-B73F-15CEA0E056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C82A-8E24-4344-B04D-F7DCFEF0C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5855-3DB3-4C37-B218-5D2101D18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AB94-1F78-4D6E-914F-7B22B2937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C929-65B9-47E9-8397-DFA15854B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EDD-8560-413B-B518-B0E1C8B7E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DDF2-6DDF-41E0-8709-6A6F757C2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62C0-2AD6-438E-BBB2-9876B578F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536-2DAB-41AD-8544-5FCBF2343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26B2-3CC7-4DDF-8001-73D5DB31B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F14-0C20-402F-B3A4-ED1D1B3C4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EC8B-4FB2-4425-AC50-CCEB3476F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277F-8E59-464A-871D-C9AB803AA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635-FA8B-49AD-961A-E37034491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AA9-D6A3-4F27-9D0B-20E19288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73B-D273-4695-B7B1-F47B61D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BD7-87FF-4F7C-AB84-3CA044CF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104-12F8-44B5-96C0-4E2A40DA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F4F6-2161-4A92-8ABB-7FD0218E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7158-2BE6-42E5-AE9C-ABCEF9F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A1E-9A24-4A64-BCF1-BFC065A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802D-05A3-4D61-A58A-21531BD2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93DF-F12A-4290-9DD4-CC161A5E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4A81-33A1-4816-99E4-407E3EDC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7EC2-8CF8-4FA9-84C2-5D1C096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DD5-43D3-449B-85BA-F48D7226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2D99-5565-41DA-97C7-DCE5CBD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DE9F-3C13-487B-9C06-A7CC608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2C50-DBC4-406B-8A1F-731CEF60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AD95-650F-4411-B8B9-674B43CD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309A-FDFD-4949-9E14-CBAF17AD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DFCE-8993-4883-8A5C-75303D7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D54-2E43-40ED-9A62-F011FC2A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F9AF-73BE-4FF8-871B-81D1FE20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0A3-4093-42E1-BBDD-17180908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884-E0A1-4AE7-A299-55CED1B9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8CE0-8CDE-48AD-9C6C-8620AB76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4C0-FDFA-46CB-827A-1408FFE4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8A21-ACD3-451F-AC5F-7F266649FE7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1D1-A78D-4D83-9A12-9B177DBBCEF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uador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5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C:\Users\charles.mccreery\Documents\PacWave11\ScenarioPlots\enrg.010800120111030215437_test_0011092011140000_01.00N_081.50W_020_M9.00_s028_d15_r0090_L0631_W120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3147840" y="46530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C:\Users\charles.mccreery\Documents\PacWave11\ScenarioPlots\enrg.010800120111030215437_test_0011092011140000_01.00N_081.50W_020_M9.00_s028_d15_r0090_L0631_W120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3016080" y="4638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Users\charles.mccreery\Documents\PacWave11\ScenarioPlots\polygons.coast.eminmax010800120111030215437_test_0011092011140000_01.00N_081.50W_020_M9.00_s028_d15_r0090_L0631_W120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400 UTC  1.0°N 81.5°W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09/2011 at 15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509840" y="190440"/>
            <a:ext cx="6095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408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provide a fast produ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ze of the forecas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duct #01 is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hole Pacific forecast is in Product #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charles.mccreery\Documents\PacWave11\ScenarioPlots\enrg.002160620111030211950_test_0011092011140000_01.00N_081.50W_020_M8.40_s028_d15_r0090_L0283_W068_D_D_TTT.1a.jpg"/>
          <p:cNvPicPr/>
          <p:nvPr/>
        </p:nvPicPr>
        <p:blipFill>
          <a:blip r:embed="rId1"/>
          <a:stretch/>
        </p:blipFill>
        <p:spPr>
          <a:xfrm>
            <a:off x="1943280" y="0"/>
            <a:ext cx="5257800" cy="6861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09/2011  14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2300400" y="416880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Users\charles.mccreery\Documents\PacWave11\ScenarioPlots\enrg.002160620111030211950_test_0011092011140000_01.00N_081.50W_020_M8.40_s028_d15_r0090_L0283_W068_D_D_TTT.2a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09/2011  14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300400" y="416880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C:\Users\charles.mccreery\Documents\PacWave11\ScenarioPlots\polygons.coast.eminmax002160620111030211950_test_0011092011140000_01.00N_081.50W_020_M8.40_s028_d15_r0090_L0283_W068_D_D_TT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400 UTC  1.0°N 81.5°W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09/2011 at 1408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23880" y="114300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4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Users\charles.mccreery\Documents\PacWave11\ScenarioPlots\enrg.010800120111030213907_test_0011092011140000_01.00N_081.50W_020_M8.70_s028_d15_r0090_L0423_W091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09/2011  14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3089160" y="464184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Users\charles.mccreery\Documents\PacWave11\ScenarioPlots\enrg.010800120111030213907_test_0011092011140000_01.00N_081.50W_020_M8.70_s028_d15_r0090_L0423_W091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09/2011  14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089160" y="46530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C:\Users\charles.mccreery\Documents\PacWave11\ScenarioPlots\polygons.coast.eminmax010800120111030213907_test_0011092011140000_01.00N_081.50W_020_M8.70_s028_d15_r0090_L0423_W091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400 UTC  1.0°N 81.5°W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09/2011 at 14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17:28Z</cp:lastPrinted>
  <dcterms:modified xsi:type="dcterms:W3CDTF">2011-11-01T13:43:13Z</dcterms:modified>
  <cp:revision>10</cp:revision>
  <dc:subject/>
  <dc:title>Slide 1</dc:title>
</cp:coreProperties>
</file>