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9FA8-F919-45B6-ADE2-FE66B0D9448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23DF-12C1-4507-9BEF-5BC04179E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ACFA-B95B-4723-9FBA-9E29EEA9C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5A0B-33F9-4664-9481-97301F938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4727-E673-43C3-ADB2-EBE2FE0E2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6976-8812-4C2E-A327-C457CDEEE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A42E-04E8-460D-8D7A-6C877702C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D50F-3BA2-4C32-9FF3-66584C4C6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B25D-B262-4185-ABDC-11A936EF1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67A3-A05A-4395-85F0-E676857F5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7337-FE08-4E76-B462-F42947477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6078-5713-42CF-8AFD-D784C87AA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0593-4EF8-4E6F-B38B-C38BEA4F2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76C6-2A22-4194-92DC-53E3DC85D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B155-652A-46FB-ABD5-DBA1149F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C52-B10A-4EC8-87FA-FB81441E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15D-B0BB-4344-B252-86833F62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04B-B444-4503-9E06-CFC1E066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C25E-7B34-47E3-94C9-A4F000AF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1364-9F80-4761-BE16-75E94B89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258F-4EE9-4EB1-9877-AA0532E2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53B8-5F98-4A4D-94DA-AAE061EB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62FF-B24C-4C0C-B482-0F1924B1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4D6D-F43B-4FB6-8434-82A64AC1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4BE2-F07E-46DD-8D85-3CB7326F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026C-FD1A-45E8-BAC4-DB2B4F0F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CDFF-9185-4CDC-88EA-5CB4A900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47E9-DBAD-4070-A064-04648ED8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F883-DD5B-455C-8700-4063D638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C615-7356-4484-8386-21086E02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8D42-5CFF-479B-B83E-A8BD09FA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2BEA-2101-43E0-A36D-692805AD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8C65-0F9A-4F62-8AB0-924AD945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2902-3828-41B5-B667-30B26F42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F632-5A70-456C-8982-B9FDFEF2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48B9-FDD8-451A-A905-905FBF9F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55C-F618-40FB-A624-F8786F69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0E73-A126-4811-86FC-9B621B65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09F0-3173-4047-867A-572A82F6EA1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BA47-8F30-476F-AFFE-D052CE7E6F3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6"/>
          <p:cNvSpPr/>
          <p:nvPr/>
        </p:nvSpPr>
        <p:spPr>
          <a:xfrm>
            <a:off x="1600200" y="1440000"/>
            <a:ext cx="6095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le Mw=9 Earthquake and Tsunami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raft Experimental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2"/>
          <p:cNvSpPr/>
          <p:nvPr/>
        </p:nvSpPr>
        <p:spPr>
          <a:xfrm>
            <a:off x="1523880" y="914400"/>
            <a:ext cx="6096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T #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uld be issued at 1445 U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5 minutes after the earthquake, and includes the following 3 maps as part of the 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duct su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pdated Mw=9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maps do not change further for this scen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C:\Users\charles.mccreery\Documents\PacWave11\ScenarioPlots\enrg.010800120111030225409_test_0011092011130000_32.30S_071.90W_020_M9.00_s001_d15_r0090_L0631_W120_D_D_Pacific.1a.jpg"/>
          <p:cNvPicPr/>
          <p:nvPr/>
        </p:nvPicPr>
        <p:blipFill>
          <a:blip r:embed="rId1"/>
          <a:stretch/>
        </p:blipFill>
        <p:spPr>
          <a:xfrm>
            <a:off x="1450800" y="0"/>
            <a:ext cx="62424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Deep-Ocean Tsunami Forecast Number 03 – Issued 11/09/2011  15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2286000" y="44197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C:\Users\charles.mccreery\Documents\PacWave11\ScenarioPlots\enrg.010800120111030225409_test_0011092011130000_32.30S_071.90W_020_M9.00_s001_d15_r0090_L0631_W120_D_D_Pacific.2a.jpg"/>
          <p:cNvPicPr/>
          <p:nvPr/>
        </p:nvPicPr>
        <p:blipFill>
          <a:blip r:embed="rId1"/>
          <a:stretch/>
        </p:blipFill>
        <p:spPr>
          <a:xfrm>
            <a:off x="1450800" y="0"/>
            <a:ext cx="62424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Coastal Tsunami Forecast Number 03 – Issued 11/09/2011  15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2319480" y="4573440"/>
            <a:ext cx="464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C:\Users\charles.mccreery\Documents\PacWave11\ScenarioPlots\polygons.coast.eminmax010800120111030225409_test_0011092011130000_32.30S_071.90W_020_M9.00_s001_d15_r0090_L0631_W120_D_D_Pacific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5"/>
          <p:cNvGrpSpPr/>
          <p:nvPr/>
        </p:nvGrpSpPr>
        <p:grpSpPr>
          <a:xfrm>
            <a:off x="304920" y="76320"/>
            <a:ext cx="7543800" cy="6704280"/>
            <a:chOff x="304920" y="76320"/>
            <a:chExt cx="7543800" cy="6704280"/>
          </a:xfrm>
        </p:grpSpPr>
        <p:sp>
          <p:nvSpPr>
            <p:cNvPr id="123" name="TextBox 6"/>
            <p:cNvSpPr/>
            <p:nvPr/>
          </p:nvSpPr>
          <p:spPr>
            <a:xfrm>
              <a:off x="609480" y="6443280"/>
              <a:ext cx="701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arthquake:  11/09/2011  1300 UTC  32.3°S 71.9°W  h=20km  Mw=9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7"/>
            <p:cNvSpPr/>
            <p:nvPr/>
          </p:nvSpPr>
          <p:spPr>
            <a:xfrm>
              <a:off x="304920" y="76320"/>
              <a:ext cx="754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TWC Tsunami Threat Level Forecast Number 03 - Issued 11/09/2011 at 1445 U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8"/>
          <p:cNvSpPr/>
          <p:nvPr/>
        </p:nvSpPr>
        <p:spPr>
          <a:xfrm>
            <a:off x="685800" y="5678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6"/>
          <p:cNvSpPr/>
          <p:nvPr/>
        </p:nvSpPr>
        <p:spPr>
          <a:xfrm>
            <a:off x="1468440" y="258840"/>
            <a:ext cx="60958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T #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uld be issued at 1308 UT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 minutes after the earthquake, and includes the following 3 maps as part of the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duct su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provide a fast produc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size of the forecast ar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 Product #01 is limi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whole Pacific forecast is in Product #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itial Preliminary Mw=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Users\charles.mccreery\Documents\PacWave11\ScenarioPlots\enrg.002160320111030220627_test_0011092011130000_32.30S_071.90W_020_M8.40_s001_d15_r0090_L0283_W068_D_D_TTT.1a.jpg"/>
          <p:cNvPicPr/>
          <p:nvPr/>
        </p:nvPicPr>
        <p:blipFill>
          <a:blip r:embed="rId1"/>
          <a:stretch/>
        </p:blipFill>
        <p:spPr>
          <a:xfrm>
            <a:off x="2744640" y="0"/>
            <a:ext cx="3654720" cy="687240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Deep-Ocean Tsunami Forecast Number 01 – Issued 11/09/2011  1308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2989440" y="4143240"/>
            <a:ext cx="259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C:\Users\charles.mccreery\Documents\PacWave11\ScenarioPlots\enrg.002160320111030220627_test_0011092011130000_32.30S_071.90W_020_M8.40_s001_d15_r0090_L0283_W068_D_D_TTT.2a.jpg"/>
          <p:cNvPicPr/>
          <p:nvPr/>
        </p:nvPicPr>
        <p:blipFill>
          <a:blip r:embed="rId1"/>
          <a:stretch/>
        </p:blipFill>
        <p:spPr>
          <a:xfrm>
            <a:off x="2749680" y="0"/>
            <a:ext cx="36446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Coastal Tsunami Forecast Number 01 – Issued 11/09/2011  1308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2943360" y="4165560"/>
            <a:ext cx="259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C:\Users\charles.mccreery\Documents\PacWave11\ScenarioPlots\polygons.coast.eminmax002160320111030220627_test_0011092011130000_32.30S_071.90W_020_M8.40_s001_d15_r0090_L0283_W068_D_D_TTT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4"/>
          <p:cNvGrpSpPr/>
          <p:nvPr/>
        </p:nvGrpSpPr>
        <p:grpSpPr>
          <a:xfrm>
            <a:off x="304920" y="76320"/>
            <a:ext cx="7543800" cy="6704280"/>
            <a:chOff x="304920" y="76320"/>
            <a:chExt cx="7543800" cy="6704280"/>
          </a:xfrm>
        </p:grpSpPr>
        <p:sp>
          <p:nvSpPr>
            <p:cNvPr id="99" name="TextBox 5"/>
            <p:cNvSpPr/>
            <p:nvPr/>
          </p:nvSpPr>
          <p:spPr>
            <a:xfrm>
              <a:off x="609480" y="6443280"/>
              <a:ext cx="701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arthquake:  11/09/2011  1300 UTC  32.3°S 71.9°W  h=20km  Mw=8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6"/>
            <p:cNvSpPr/>
            <p:nvPr/>
          </p:nvSpPr>
          <p:spPr>
            <a:xfrm>
              <a:off x="304920" y="76320"/>
              <a:ext cx="754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TWC Tsunami Threat Level Forecast Number 01 - Issued 11/09/2011 at 1308 U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9"/>
          <p:cNvSpPr/>
          <p:nvPr/>
        </p:nvSpPr>
        <p:spPr>
          <a:xfrm>
            <a:off x="685800" y="5678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"/>
          <p:cNvSpPr/>
          <p:nvPr/>
        </p:nvSpPr>
        <p:spPr>
          <a:xfrm>
            <a:off x="1563840" y="1130400"/>
            <a:ext cx="6095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T #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uld be issued at 1345 UT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5 minutes after the earthquake, and includes the following 3 maps as part of the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duct su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pdated Mw=8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:\Users\charles.mccreery\Documents\PacWave11\ScenarioPlots\enrg.010800120111030224053_test_0011092011130000_32.30S_071.90W_020_M8.70_s001_d15_r0090_L0423_W091_D_D_Pacific.1a.jpg"/>
          <p:cNvPicPr/>
          <p:nvPr/>
        </p:nvPicPr>
        <p:blipFill>
          <a:blip r:embed="rId1"/>
          <a:stretch/>
        </p:blipFill>
        <p:spPr>
          <a:xfrm>
            <a:off x="1450800" y="0"/>
            <a:ext cx="62424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Deep-Ocean Tsunami Forecast Number 02 – Issued 11/09/2011  13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2363760" y="47293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:\Users\charles.mccreery\Documents\PacWave11\ScenarioPlots\enrg.010800120111030224053_test_0011092011130000_32.30S_071.90W_020_M8.70_s001_d15_r0090_L0423_W091_D_D_Pacific.2a.jpg"/>
          <p:cNvPicPr/>
          <p:nvPr/>
        </p:nvPicPr>
        <p:blipFill>
          <a:blip r:embed="rId1"/>
          <a:stretch/>
        </p:blipFill>
        <p:spPr>
          <a:xfrm>
            <a:off x="1450800" y="0"/>
            <a:ext cx="62424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Coastal Tsunami Forecast Number 02 – Issued 11/09/2011  13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2297160" y="45846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C:\Users\charles.mccreery\Documents\PacWave11\ScenarioPlots\polygons.coast.eminmax010800120111030224053_test_0011092011130000_32.30S_071.90W_020_M8.70_s001_d15_r0090_L0423_W091_D_D_Pacific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4"/>
          <p:cNvGrpSpPr/>
          <p:nvPr/>
        </p:nvGrpSpPr>
        <p:grpSpPr>
          <a:xfrm>
            <a:off x="304920" y="76320"/>
            <a:ext cx="7543800" cy="6704280"/>
            <a:chOff x="304920" y="76320"/>
            <a:chExt cx="7543800" cy="6704280"/>
          </a:xfrm>
        </p:grpSpPr>
        <p:sp>
          <p:nvSpPr>
            <p:cNvPr id="111" name="TextBox 5"/>
            <p:cNvSpPr/>
            <p:nvPr/>
          </p:nvSpPr>
          <p:spPr>
            <a:xfrm>
              <a:off x="609480" y="6443280"/>
              <a:ext cx="701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arthquake:  11/09/2011  1300 UTC  32.3°S 71.9°W  h=20km  Mw=8.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6"/>
            <p:cNvSpPr/>
            <p:nvPr/>
          </p:nvSpPr>
          <p:spPr>
            <a:xfrm>
              <a:off x="304920" y="76320"/>
              <a:ext cx="754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TWC Tsunami Threat Level Forecast Number 02 - Issued 11/09/2011 at 1345 U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685800" y="5678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2:23:44Z</dcterms:created>
  <dc:creator>Charles S. McCreery</dc:creator>
  <dc:description/>
  <dc:language>en-US</dc:language>
  <cp:lastModifiedBy>Laura Kong</cp:lastModifiedBy>
  <cp:lastPrinted>2011-11-01T13:08:47Z</cp:lastPrinted>
  <dcterms:modified xsi:type="dcterms:W3CDTF">2011-11-01T13:08:51Z</dcterms:modified>
  <cp:revision>12</cp:revision>
  <dc:subject/>
  <dc:title>Slide 1</dc:title>
</cp:coreProperties>
</file>