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EF30-C3A7-41CF-BCCB-D6C3D298F8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A570-456F-4F08-809D-A27EB4DF8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5AE1-EBFD-40AA-BBB2-CA51A4062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25D-D9DA-4EED-A09C-610881600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1E9F-F1EC-4EF1-9C19-3A4A292D4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3028-1D33-4112-90A0-646B5886D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6448-1552-48FF-B053-DA1C89929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140E-9F8A-4454-BE19-0EEBC788E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EFB6-2B36-4D12-BAB5-B7DC8A097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90C5-C197-4D08-A3DB-0E75C2A60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6471-EB8B-4115-A56B-2DDAA4DC2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8BE-5A98-4326-AEF4-13962BFBB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7F9B-43ED-4090-B195-28AC390CC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2607-3D01-48DD-842A-E6A745D65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618-7B80-4555-8BDB-C79C4EAB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E18-B113-4660-ABAA-33747548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44B-3BE2-4E6C-84C4-7D1B97D5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AF4-6001-4795-BEAC-1B9B86AC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FD72-B683-48DC-93AD-328122BB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4526-129C-4C3E-8812-4CC06FC8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2E84-6662-4D68-8D11-3C07C1A8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E574-7EAE-4A82-81B0-B74EE495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245D-68F8-4665-9ECD-3075F875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6F1A-F2FF-4A34-A8F3-144FFD64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A7D2-B92F-4376-A84C-27A1628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F07-633F-4212-8349-BC7AA24E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E982-9BD3-4702-A7EE-294454B6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F8B4-FD76-45E3-80E2-BC1141F1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29B5-9D10-47B1-B218-FF3DDC3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6122-5C43-4F1C-B0B6-D8A37EDB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0F61-496A-42AA-B81B-3A43B1F2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8DF-9D36-465C-929C-3DBA0BE6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59A-BCA7-4E18-9BCB-12DE203A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161-BB5B-43BB-8562-E0FC820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ACF-74A7-44F1-8780-CE04DF5A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C55-F316-4501-9AFC-13947E5F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FD9-FAD0-4C19-8770-A1013139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0F7-2B41-4A4F-9BE7-933C29E4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1C1A-7C88-4311-B98A-955F3EB1C5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9C5-E57C-46B4-9ECA-1A1A088611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1600200" y="144000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nga Trench Mw=9 Earthquake and Tsunami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aft Experimental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1523880" y="914400"/>
            <a:ext cx="6096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22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5 minutes after the earthquake, and includes the following 3 maps as part of the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9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aps do not change further for this scen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charles.mccreery\Documents\PacWave11\ScenarioPlots\enrg.008640320111031001521_test_0011092011210000_23.60S_175.50W_020_M9.00_s202_d15_r0090_L0631_W120_D_D_Manual.1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3 – Issued 11/09/2011  22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800440" y="1347840"/>
            <a:ext cx="32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:\Users\charles.mccreery\Documents\PacWave11\ScenarioPlots\enrg.008640320111031001521_test_0011092011210000_23.60S_175.50W_020_M9.00_s202_d15_r0090_L0631_W120_D_D_Manual.2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3 – Issued 11/09/2011  22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757600" y="465444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C:\Users\charles.mccreery\Documents\PacWave11\ScenarioPlots\polygons.coast.eminmax008640320111031001521_test_0011092011210000_23.60S_175.50W_020_M9.00_s202_d15_r0090_L0631_W120_D_D_Manua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5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23" name="TextBox 6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2100 UTC  23.6°S 175.5°W  h=20km  Mw=9.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7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3 - Issued 11/09/2011 at 22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8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1523880" y="236520"/>
            <a:ext cx="60962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2108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 minutes after the earthquake, and includes the following 3 maps as part of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provide a fast produc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size of the forecas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 Product #01 is lim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whole Pacific forecast is in Product #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itial Preliminary Mw=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:\Users\charles.mccreery\Documents\PacWave11\ScenarioPlots\enrg.002160520111030234129_test_0011092011210000_23.60S_175.50W_020_M8.40_s202_d15_r0090_L0283_W068_D_D_TTT.1a.jpg"/>
          <p:cNvPicPr/>
          <p:nvPr/>
        </p:nvPicPr>
        <p:blipFill>
          <a:blip r:embed="rId1"/>
          <a:stretch/>
        </p:blipFill>
        <p:spPr>
          <a:xfrm>
            <a:off x="1944720" y="0"/>
            <a:ext cx="5254560" cy="68644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1 – Issued 11/09/2011  21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4243320" y="358920"/>
            <a:ext cx="259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C:\Users\charles.mccreery\Documents\PacWave11\ScenarioPlots\enrg.002160520111030234129_test_0011092011210000_23.60S_175.50W_020_M8.40_s202_d15_r0090_L0283_W068_D_D_TTT.2a.jpg"/>
          <p:cNvPicPr/>
          <p:nvPr/>
        </p:nvPicPr>
        <p:blipFill>
          <a:blip r:embed="rId1"/>
          <a:stretch/>
        </p:blipFill>
        <p:spPr>
          <a:xfrm>
            <a:off x="1952640" y="0"/>
            <a:ext cx="5238720" cy="684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1 – Issued 11/09/2011  2108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373640" y="4129200"/>
            <a:ext cx="259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charles.mccreery\Documents\PacWave11\ScenarioPlots\polygons.coast.eminmax002160520111030234129_test_0011092011210000_23.60S_175.50W_020_M8.40_s202_d15_r0090_L0283_W068_D_D_TTT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99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2100 UTC  23.6°S 175.5°W  h=20km  Mw=8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1 - Issued 11/09/2011 at 2108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9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1523880" y="1143000"/>
            <a:ext cx="6096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T #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ould be issued at 2145 UT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5 minutes after the earthquake, and includes the following 3 maps as part of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roduct su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dated Mw=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C:\Users\charles.mccreery\Documents\PacWave11\ScenarioPlots\enrg.008640320111031000651_test_0011092011210000_23.60S_175.50W_020_M8.70_s202_d15_r0090_L0423_W091_D_D_Manual.1a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Deep-Ocean Tsunami Forecast Number 02 – Issued 11/09/2011  21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617920" y="1295280"/>
            <a:ext cx="363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C:\Users\charles.mccreery\Documents\PacWave11\ScenarioPlots\enrg.008640320111031000651_test_0011092011210000_23.60S_175.50W_020_M8.70_s202_d15_r0090_L0423_W091_D_D_Manual.2a.jpg"/>
          <p:cNvPicPr/>
          <p:nvPr/>
        </p:nvPicPr>
        <p:blipFill>
          <a:blip r:embed="rId1"/>
          <a:stretch/>
        </p:blipFill>
        <p:spPr>
          <a:xfrm>
            <a:off x="1452600" y="0"/>
            <a:ext cx="6238800" cy="6856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0" y="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TWC Coastal Tsunami Forecast Number 02 – Issued 11/09/2011  2145 UTC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416320" y="4589640"/>
            <a:ext cx="464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C:\Users\charles.mccreery\Documents\PacWave11\ScenarioPlots\polygons.coast.eminmax008640320111031000651_test_0011092011210000_23.60S_175.50W_020_M8.70_s202_d15_r0090_L0423_W091_D_D_Manual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4"/>
          <p:cNvGrpSpPr/>
          <p:nvPr/>
        </p:nvGrpSpPr>
        <p:grpSpPr>
          <a:xfrm>
            <a:off x="304920" y="76320"/>
            <a:ext cx="7543800" cy="6704280"/>
            <a:chOff x="304920" y="76320"/>
            <a:chExt cx="7543800" cy="6704280"/>
          </a:xfrm>
        </p:grpSpPr>
        <p:sp>
          <p:nvSpPr>
            <p:cNvPr id="111" name="TextBox 5"/>
            <p:cNvSpPr/>
            <p:nvPr/>
          </p:nvSpPr>
          <p:spPr>
            <a:xfrm>
              <a:off x="609480" y="6443280"/>
              <a:ext cx="701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arthquake:  11/09/2011  2100 UTC  23.6°S 175.5°W  h=20km  Mw=8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"/>
            <p:cNvSpPr/>
            <p:nvPr/>
          </p:nvSpPr>
          <p:spPr>
            <a:xfrm>
              <a:off x="304920" y="76320"/>
              <a:ext cx="754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TWC Tsunami Threat Level Forecast Number 02 - Issued 11/09/2011 at 2145 UT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685800" y="56786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PacWave11 Tsunami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23:44Z</dcterms:created>
  <dc:creator>Charles S. McCreery</dc:creator>
  <dc:description/>
  <dc:language>en-US</dc:language>
  <cp:lastModifiedBy>Laura Kong</cp:lastModifiedBy>
  <cp:lastPrinted>2011-11-01T13:22:40Z</cp:lastPrinted>
  <dcterms:modified xsi:type="dcterms:W3CDTF">2011-11-01T13:22:51Z</dcterms:modified>
  <cp:revision>13</cp:revision>
  <dc:subject/>
  <dc:title>Slide 1</dc:title>
</cp:coreProperties>
</file>