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B6D5-9379-4AF0-ACA5-BAB0447074C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CDD5-5EDA-464F-9B0F-A75363307B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22AC-D029-48B2-A630-08A9E9457F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A9F2-0776-4100-83B7-A4F051E98F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DE2E-A1FE-403B-9E34-72D85271E9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DCDA-C214-490A-AA49-1A1099E1BA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AA3E-6870-4CA4-A80C-1197F87376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604D-8917-4B1B-AEA7-FE8D296207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0359-7A43-4605-BC53-C2259966B1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E493-E340-4164-A256-2B65E226F7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D3DC-7F3C-492A-9DE2-5BD9537292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E99E-5B2C-4619-A840-7EDAD4548A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57B2-F246-4DE3-9A5E-EE85CF30EC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E01C-7260-480F-97C6-FD8D45EC73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1202-AFBF-4E3F-AF77-961849015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6C9F-CCCB-46ED-A8F2-5CE90F7F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0117-C0BE-49B4-BF8A-5A4FEBCC3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6B63-DF09-45D8-A454-53303477B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B13C-F91C-46A4-9498-AC97E54AB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4B62D-8447-4879-B356-7F6EC937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43ED-1916-4A4C-9E97-BF07F55F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C0A6-1471-4797-8CE8-3C7FADF8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D9FF-A8CC-4FBC-9F73-A008F8BF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B292-D78A-4864-9F55-888FAC2F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2B28-C95E-4649-B90E-70BCF500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D2F5-F5CD-4838-B0BF-CFAEC549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992A-1B04-4674-8ED7-3DCE8715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EA5CD-01C4-4D3B-AB46-5C026385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FA43-388E-47A7-8F54-B7666336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910C-C2D4-4870-B87C-DCA44F48D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6AA7-E61B-4E35-97C2-159B96FF3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725B-6247-4E44-883D-CC6EA959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64C6-7936-4BEB-B1A6-220B2941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744C-83F8-452B-96D5-93276A47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D426-3A1A-41C1-B49F-9126AEC3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4A48-FD92-49B2-91B9-487DF742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C735-5E69-439F-BDDD-D67D26A6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F705-D729-4783-87FC-AC25D659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643C-6968-435E-9856-69EAF8FD21E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7A39-33E7-4A9D-8D1C-A6A8180A10B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6"/>
          <p:cNvSpPr/>
          <p:nvPr/>
        </p:nvSpPr>
        <p:spPr>
          <a:xfrm>
            <a:off x="1600200" y="1440000"/>
            <a:ext cx="6095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cWave11 Tsunami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anuatu Mw=9 Earthquake and Tsunami Scen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raft Experimental 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2"/>
          <p:cNvSpPr/>
          <p:nvPr/>
        </p:nvSpPr>
        <p:spPr>
          <a:xfrm>
            <a:off x="1523880" y="914400"/>
            <a:ext cx="60962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DUCT #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ould be issued at 2345 UTC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5 minutes after the earthquake, and includes the following 3 maps as part of the 3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product su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pdated Mw=9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maps do not change further for this scena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7" descr="C:\Users\charles.mccreery\Documents\PacWave11\ScenarioPlots\enrg.010800120111031005526_test_0011092011220000_14.30S_166.20E_020_M9.00_s360_d15_r0090_L0631_W120_D_D_Pacific.1a.jpg"/>
          <p:cNvPicPr/>
          <p:nvPr/>
        </p:nvPicPr>
        <p:blipFill>
          <a:blip r:embed="rId1"/>
          <a:stretch/>
        </p:blipFill>
        <p:spPr>
          <a:xfrm>
            <a:off x="1441440" y="0"/>
            <a:ext cx="6261120" cy="6880320"/>
          </a:xfrm>
          <a:prstGeom prst="rect">
            <a:avLst/>
          </a:prstGeom>
          <a:ln w="0">
            <a:noFill/>
          </a:ln>
        </p:spPr>
      </p:pic>
      <p:sp>
        <p:nvSpPr>
          <p:cNvPr id="116" name="TextBox 4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TWC Deep-Ocean Tsunami Forecast Number 03 – Issued 11/09/2011  2345 UTC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2443320" y="4694400"/>
            <a:ext cx="4647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PacWave11 Tsunami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7" descr="C:\Users\charles.mccreery\Documents\PacWave11\ScenarioPlots\enrg.010800120111031005526_test_0011092011220000_14.30S_166.20E_020_M9.00_s360_d15_r0090_L0631_W120_D_D_Pacific.2a.jpg"/>
          <p:cNvPicPr/>
          <p:nvPr/>
        </p:nvPicPr>
        <p:blipFill>
          <a:blip r:embed="rId1"/>
          <a:stretch/>
        </p:blipFill>
        <p:spPr>
          <a:xfrm>
            <a:off x="1450800" y="0"/>
            <a:ext cx="62424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4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TWC Coastal Tsunami Forecast Number 03 – Issued 11/09/2011  2345 UTC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2600280" y="461628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PacWave11 Tsunami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C:\Users\charles.mccreery\Documents\PacWave11\ScenarioPlots\polygons.coast.eminmax010800120111031005526_test_0011092011220000_14.30S_166.20E_020_M9.00_s360_d15_r0090_L0631_W120_D_D_Pacific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5"/>
          <p:cNvGrpSpPr/>
          <p:nvPr/>
        </p:nvGrpSpPr>
        <p:grpSpPr>
          <a:xfrm>
            <a:off x="304920" y="76320"/>
            <a:ext cx="7543800" cy="6704280"/>
            <a:chOff x="304920" y="76320"/>
            <a:chExt cx="7543800" cy="6704280"/>
          </a:xfrm>
        </p:grpSpPr>
        <p:sp>
          <p:nvSpPr>
            <p:cNvPr id="123" name="TextBox 6"/>
            <p:cNvSpPr/>
            <p:nvPr/>
          </p:nvSpPr>
          <p:spPr>
            <a:xfrm>
              <a:off x="609480" y="6443280"/>
              <a:ext cx="701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arthquake:  11/09/2011  2200 UTC  14.3°S 166.2°E  h=20km  Mw=9.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Box 7"/>
            <p:cNvSpPr/>
            <p:nvPr/>
          </p:nvSpPr>
          <p:spPr>
            <a:xfrm>
              <a:off x="304920" y="76320"/>
              <a:ext cx="754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TWC Tsunami Threat Level Forecast Number 03 - Issued 11/09/2011 at 2245 UT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Box 8"/>
          <p:cNvSpPr/>
          <p:nvPr/>
        </p:nvSpPr>
        <p:spPr>
          <a:xfrm>
            <a:off x="685800" y="567864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PacWave11 Tsunami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6"/>
          <p:cNvSpPr/>
          <p:nvPr/>
        </p:nvSpPr>
        <p:spPr>
          <a:xfrm>
            <a:off x="1523880" y="380880"/>
            <a:ext cx="60962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DUCT #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ould be issued at 2208 UTC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 minutes after the earthquake, and includes the following 3 maps as part of the 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product su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 provide a fast produc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size of the forecast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r Product #01 is limi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whole Pacific forecast is in Product #0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itial Preliminary Mw=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C:\Users\charles.mccreery\Documents\PacWave11\ScenarioPlots\enrg.002160520111031002656_test_0011092011220000_14.30S_166.20E_020_M8.40_s360_d15_r0090_L0283_W068_D_D_TTT.1a.jpg"/>
          <p:cNvPicPr/>
          <p:nvPr/>
        </p:nvPicPr>
        <p:blipFill>
          <a:blip r:embed="rId1"/>
          <a:stretch/>
        </p:blipFill>
        <p:spPr>
          <a:xfrm>
            <a:off x="1582560" y="0"/>
            <a:ext cx="597888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TWC Deep-Ocean Tsunami Forecast Number 01 – Issued 11/09/2011  2208 UTC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4746600" y="358920"/>
            <a:ext cx="2590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PacWave11 Tsunami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7" descr="C:\Users\charles.mccreery\Documents\PacWave11\ScenarioPlots\enrg.002160520111031002656_test_0011092011220000_14.30S_166.20E_020_M8.40_s360_d15_r0090_L0283_W068_D_D_TTT.2a.jpg"/>
          <p:cNvPicPr/>
          <p:nvPr/>
        </p:nvPicPr>
        <p:blipFill>
          <a:blip r:embed="rId1"/>
          <a:stretch/>
        </p:blipFill>
        <p:spPr>
          <a:xfrm>
            <a:off x="1582560" y="0"/>
            <a:ext cx="597888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TWC Coastal Tsunami Forecast Number 01 – Issued 11/09/2011  2208 UTC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4894200" y="341280"/>
            <a:ext cx="2590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PacWave11 Tsunami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7" descr="C:\Users\charles.mccreery\Documents\PacWave11\ScenarioPlots\polygons.coast.eminmax002160520111031002656_test_0011092011220000_14.30S_166.20E_020_M8.40_s360_d15_r0090_L0283_W068_D_D_TTT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8" name="Group 4"/>
          <p:cNvGrpSpPr/>
          <p:nvPr/>
        </p:nvGrpSpPr>
        <p:grpSpPr>
          <a:xfrm>
            <a:off x="304920" y="76320"/>
            <a:ext cx="7543800" cy="6704280"/>
            <a:chOff x="304920" y="76320"/>
            <a:chExt cx="7543800" cy="6704280"/>
          </a:xfrm>
        </p:grpSpPr>
        <p:sp>
          <p:nvSpPr>
            <p:cNvPr id="99" name="TextBox 5"/>
            <p:cNvSpPr/>
            <p:nvPr/>
          </p:nvSpPr>
          <p:spPr>
            <a:xfrm>
              <a:off x="609480" y="6443280"/>
              <a:ext cx="701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arthquake:  11/09/2011  2200 UTC  14.3°S 166.2°E  h=20km  Mw=8.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6"/>
            <p:cNvSpPr/>
            <p:nvPr/>
          </p:nvSpPr>
          <p:spPr>
            <a:xfrm>
              <a:off x="304920" y="76320"/>
              <a:ext cx="754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TWC Tsunami Threat Level Forecast Number 01 - Issued 11/09/2011 at 2208 UT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Box 9"/>
          <p:cNvSpPr/>
          <p:nvPr/>
        </p:nvSpPr>
        <p:spPr>
          <a:xfrm>
            <a:off x="685800" y="567864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PacWave11 Tsunami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2"/>
          <p:cNvSpPr/>
          <p:nvPr/>
        </p:nvSpPr>
        <p:spPr>
          <a:xfrm>
            <a:off x="1523880" y="1143000"/>
            <a:ext cx="6096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DUCT #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ould be issued at 2245 UTC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5 minutes after the earthquake, and includes the following 3 maps as part of the 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product su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pdated Mw=8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C:\Users\charles.mccreery\Documents\PacWave11\ScenarioPlots\enrg.010800120111031003914_test_0011092011220000_14.30S_166.20E_020_M8.70_s360_d15_r0090_L0423_W091_D_D_Pacific.1a.jpg"/>
          <p:cNvPicPr/>
          <p:nvPr/>
        </p:nvPicPr>
        <p:blipFill>
          <a:blip r:embed="rId1"/>
          <a:stretch/>
        </p:blipFill>
        <p:spPr>
          <a:xfrm>
            <a:off x="1450800" y="0"/>
            <a:ext cx="62424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4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TWC Deep-Ocean Tsunami Forecast Number 02 – Issued 11/09/2011  2245 UTC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2416320" y="4576680"/>
            <a:ext cx="4647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PacWave11 Tsunami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7" descr="C:\Users\charles.mccreery\Documents\PacWave11\ScenarioPlots\enrg.010800120111031003914_test_0011092011220000_14.30S_166.20E_020_M8.70_s360_d15_r0090_L0423_W091_D_D_Pacific.2a.jpg"/>
          <p:cNvPicPr/>
          <p:nvPr/>
        </p:nvPicPr>
        <p:blipFill>
          <a:blip r:embed="rId1"/>
          <a:stretch/>
        </p:blipFill>
        <p:spPr>
          <a:xfrm>
            <a:off x="1450800" y="0"/>
            <a:ext cx="62424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4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TWC Coastal Tsunami Forecast Number 02 – Issued 11/09/2011  2245 UTC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2782800" y="461628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PacWave11 Tsunami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7" descr="C:\Users\charles.mccreery\Documents\PacWave11\ScenarioPlots\polygons.coast.eminmax010800120111031003914_test_0011092011220000_14.30S_166.20E_020_M8.70_s360_d15_r0090_L0423_W091_D_D_Pacific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4"/>
          <p:cNvGrpSpPr/>
          <p:nvPr/>
        </p:nvGrpSpPr>
        <p:grpSpPr>
          <a:xfrm>
            <a:off x="304920" y="76320"/>
            <a:ext cx="7543800" cy="6704280"/>
            <a:chOff x="304920" y="76320"/>
            <a:chExt cx="7543800" cy="6704280"/>
          </a:xfrm>
        </p:grpSpPr>
        <p:sp>
          <p:nvSpPr>
            <p:cNvPr id="111" name="TextBox 5"/>
            <p:cNvSpPr/>
            <p:nvPr/>
          </p:nvSpPr>
          <p:spPr>
            <a:xfrm>
              <a:off x="609480" y="6443280"/>
              <a:ext cx="701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arthquake:  11/09/2011  2200 UTC  14.3°S 166.2°E  h=20km  Mw=8.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6"/>
            <p:cNvSpPr/>
            <p:nvPr/>
          </p:nvSpPr>
          <p:spPr>
            <a:xfrm>
              <a:off x="304920" y="76320"/>
              <a:ext cx="754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TWC Tsunami Threat Level Forecast Number 02 - Issued 11/09/2011 at 2245 UT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Box 7"/>
          <p:cNvSpPr/>
          <p:nvPr/>
        </p:nvSpPr>
        <p:spPr>
          <a:xfrm>
            <a:off x="685800" y="567864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PacWave11 Tsunami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2:23:44Z</dcterms:created>
  <dc:creator>Charles S. McCreery</dc:creator>
  <dc:description/>
  <dc:language>en-US</dc:language>
  <cp:lastModifiedBy>Laura Kong</cp:lastModifiedBy>
  <cp:lastPrinted>2011-11-01T13:23:19Z</cp:lastPrinted>
  <dcterms:modified xsi:type="dcterms:W3CDTF">2011-11-01T13:23:38Z</dcterms:modified>
  <cp:revision>12</cp:revision>
  <dc:subject/>
  <dc:title>Slide 1</dc:title>
</cp:coreProperties>
</file>