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E71D-337E-4FA6-88CD-B7336AF5D1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37E-F0B1-4163-8511-07DF55608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84C9-878A-43B5-9CDD-85D488EA65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1B93-D96E-4DDA-B669-CB5A3EB52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CEED-FAA6-4BA9-A24B-284366062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ED75-2765-45FC-A466-296212A31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B071-7DEE-45E6-882C-9210A8208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C7D8-CD2A-4E2F-B25F-48F611913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D5D9-78B9-4795-8254-D918C6968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202B-E07D-4503-81F3-E5146DE29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74C-A0B5-43DA-9A2F-9E13C456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6AB6-2828-4E11-8A47-E665218175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40B6-75E0-4B79-B971-9DF0A3880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1488-A1DA-4ACF-86A3-518AB5339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E36-721B-406F-BFB9-C657BA21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C14-FCFD-43D4-8D62-A0A2DFFB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60C-86D5-4E99-A8E6-A299A917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C9-FFAC-4EED-B0BC-ED864639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4EC5-128F-4046-A84E-7C33A42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6191-EC85-42D0-BADE-9D55C4B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635B-9C01-4F0C-AA16-46F2CA7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AD82-B9D6-404B-8D4A-36B79497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8C35-C142-40DE-8818-2385354A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177E-72FE-4864-B0BF-52E65187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C2E0-7EF5-4CC3-B63F-1EF31D85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FB-D4FE-482F-BC9D-0B2B301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62C5-8802-4426-9B63-70E22F1C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AEA1-39FA-4EC9-8D32-FA92B061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5B1A-0614-4D67-ACF8-B8ACF2C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34C9-8619-4CFB-BE51-819D9495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41C7-ED19-4435-8F9D-DA17856B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29E-CA90-4646-9144-3097371D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73A-A7BE-4B66-B4D8-E90C7939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F90-F11C-4800-811B-1B1A632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6DA-C7D8-4C8D-944F-DCAE7845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C48-31BF-4B3D-8CF8-E9ADB46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8D9-E001-44B7-A025-04E54B4F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5365-0115-4CD0-BC66-8E88301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1AD-5D9D-418B-BDEE-4C8E1168553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AC8-27E1-4F42-8C0F-E19522344D3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nila Trench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03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3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charles.mccreery\Documents\PacWave11\ScenarioPlots\enrg.004320020111031085110_test_0011102011020000_16.20N_119.30E_020_M9.00_s358_d15_r0090_L0631_W120_D_D_Manual.1a.jpg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10/2011  0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" descr="C:\Users\charles.mccreery\Documents\PacWave11\ScenarioPlots\enrg.004320020111031085110_test_0011102011020000_16.20N_119.30E_020_M9.00_s358_d15_r0090_L0631_W120_D_D_Manual.2a.jpg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10/2011  0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1" descr="C:\Users\charles.mccreery\Documents\PacWave11\ScenarioPlots\polygons.coast.eminmax004320020111031085110_test_0011102011020000_16.20N_119.30E_020_M9.00_s358_d15_r0090_L0631_W120_D_D_Manu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10/2011  0200 UTC  16.2°N 119.3°E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10/2011 at 03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523880" y="164628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0208 UT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C:\Users\charles.mccreery\Documents\PacWave11\ScenarioPlots\enrg.002160020111031075450_test_0011102011020000_16.20N_119.30E_020_M8.40_s358_d15_r0090_L0283_W068_D_D_Manual.1a.jpg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10/2011  02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C:\Users\charles.mccreery\Documents\PacWave11\ScenarioPlots\enrg.002160020111031075450_test_0011102011020000_16.20N_119.30E_020_M8.40_s358_d15_r0090_L0283_W068_D_D_Manual.2a.jpg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10/2011  02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1" descr="C:\Users\charles.mccreery\Documents\PacWave11\ScenarioPlots\polygons.coast.eminmax002160020111031075450_test_0011102011020000_16.20N_119.30E_020_M8.40_s358_d15_r0090_L0283_W068_D_D_Manu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10/2011  0200 UTC  16.2°N 119.3°E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10/2011 at 0208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23880" y="164772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02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charles.mccreery\Documents\PacWave11\ScenarioPlots\enrg.002160020111031080515_test_0011102011020000_16.20N_119.30E_020_M8.70_s358_d15_r0090_L0423_W091_D_D_Manual.1a.jpg"/>
          <p:cNvPicPr/>
          <p:nvPr/>
        </p:nvPicPr>
        <p:blipFill>
          <a:blip r:embed="rId1"/>
          <a:stretch/>
        </p:blipFill>
        <p:spPr>
          <a:xfrm>
            <a:off x="1413000" y="0"/>
            <a:ext cx="6318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10/2011  0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Users\charles.mccreery\Documents\PacWave11\ScenarioPlots\enrg.002160020111031080515_test_0011102011020000_16.20N_119.30E_020_M8.70_s358_d15_r0090_L0423_W091_D_D_Manual.2a.jpg"/>
          <p:cNvPicPr/>
          <p:nvPr/>
        </p:nvPicPr>
        <p:blipFill>
          <a:blip r:embed="rId1"/>
          <a:stretch/>
        </p:blipFill>
        <p:spPr>
          <a:xfrm>
            <a:off x="1409760" y="0"/>
            <a:ext cx="6324480" cy="6862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10/2011  0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765440" y="522360"/>
            <a:ext cx="263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Users\charles.mccreery\Documents\PacWave11\ScenarioPlots\polygons.coast.eminmax002160020111031080515_test_0011102011020000_16.20N_119.30E_020_M8.70_s358_d15_r0090_L0423_W091_D_D_Manu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10/2011  0200 UTC  16.2°N 119.3°E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10/2011 at 02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26:09Z</cp:lastPrinted>
  <dcterms:modified xsi:type="dcterms:W3CDTF">2011-11-01T13:26:20Z</dcterms:modified>
  <cp:revision>18</cp:revision>
  <dc:subject/>
  <dc:title>Slide 1</dc:title>
</cp:coreProperties>
</file>