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212B66-9714-4539-9A1F-C6F5450D44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2905F-AE74-42E1-9863-E966D6E33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B2A76-0E07-4008-A265-A6A559828B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304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ease see explanation 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18F55-E70A-4A7F-8ED0-CFB0A4AE6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4C4D5-A19D-439E-89DB-BF544E64F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C1336-7F6B-425C-8C92-80267035A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4FCEE-86EF-4271-BB28-995AA2BDC6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33D1D-AE71-4D82-BF8A-40DB5C578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262AD-00E5-4CA5-943C-F75AE91CC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DC694-09D8-4BDE-A855-428FD8783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1B4CD-A7FC-4250-BCA9-176000AB7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79E44-1908-4E67-8405-B9DCB9B3F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936110-AA7C-4E79-8CF6-25280835F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134C5-FB30-4B28-B925-D37D5C1BD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A15B5-20C2-4077-9F61-8DB0896D1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F691E-7BF9-4AA0-8407-859118DFB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A5318-D9CC-4AEA-B7A5-F70B2F031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CA326-8C5E-4722-A927-30036D759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F8186-4DEA-40BF-B6A9-D2E5D6EBB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2E1DF-4A66-49B4-99A0-E04B9B516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BBCFCA-A531-4136-A4D5-7441D53D9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13F4C-6B7F-4E4E-B917-0C5B31DEC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ease see explanation i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s Guide for the Pacific Tsunami Warning Center Enhanced Products for the Pacific Tsunami Warning System. IOC Technical Series No 105, Revised edition. UNESCO/IOC, 2014 (English; Span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ailable for download at http://ptws-ptwcnewproducts.inf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4B6B3-765C-432D-AC6B-714916A11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127-8ABE-4401-8F19-8545B0FB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32C-89BD-4890-87FF-7270488B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8264-46A4-4A67-B7BB-106C53EC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BCD-E5F1-4E41-B59A-1AEA98C1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867-09E4-4204-92C2-E05AA0EC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093-EE47-412A-BBD5-3936AF20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20B-229F-4421-8736-A4F36101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FCA-A41C-4C4D-93C9-5F04BF21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77A-662B-47CA-870B-B187C71E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213-9024-49F0-953D-DE95F3C5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C47-6B3C-406A-8589-61BA9B73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27E-59C9-4CC0-94B5-063B68EF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BFB9F-55A5-4C3E-830A-E412BB27E1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2441A-E651-4FA2-AF8F-511A8D8F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93BA0-1D12-4020-9236-8F21715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6F32B-5A29-4DDF-868F-8F379439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6F03F-2CBC-4C54-B180-8246E2B3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19C8D-25E2-40A0-9EC6-523F89DF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55AD6-A30F-4A9A-8599-C6C35482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67076-E649-44EA-9124-AF486B1F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A5F2E-BDA8-4EF5-877A-5C3ABEE2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F4C6B-D562-4487-93D7-545FDD60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47B35-58B8-4FE2-9074-7BA4CCE2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7EBC5-A55B-4FEB-8E47-0DDB1F16E1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98CE0-B82B-45E9-BACB-6198EE47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7B9E9-E577-4A1D-A688-97790877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474A1-1BE9-47E3-A72D-65CA3164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680F6-FEB4-4C4C-B8B7-45622DA1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49638-9CB1-464D-971C-48CE5920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66C41-2706-40F2-9D56-7A990DF0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96557-1ADC-4271-96FA-CFA50BF5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A0ADA-FDA5-4BF7-929A-59C07B04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D2766-8FCC-4571-B56A-E5D36D30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B6A98-E67F-484F-A42A-EE826B5F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7F428-475F-4039-A538-2C217F9C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BACB4-5C9A-4524-83A9-FFF11E3B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2751E3-CE4E-4B43-AFCE-17F2F4F7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1301B-755E-4489-A630-89FD1EBB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D8505-B906-4F7C-AA7B-6D229C4E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0879B-4ACF-474C-963F-186A6094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0AD45-B8FC-4961-8C96-6115A6F9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A93C9-68A1-43B0-8C97-A32103BA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439E7-E739-489B-9BC9-7B2B6973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95ACD9-5860-4BDF-8B22-0F19300A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DE92B-1834-4A41-92DC-95F5CED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8DC74-7FF4-4525-A4AA-60FFFF90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0A5A4-FDB1-41C5-AB52-B88BDAAE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815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8544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38080" y="129528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316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8544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38080" y="4161240"/>
            <a:ext cx="27162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B745EC-5ACD-42C1-BD8F-1E9EC818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6040" y="416124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6040" y="1295280"/>
            <a:ext cx="411660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4161240"/>
            <a:ext cx="8435880" cy="2616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7"/>
          <p:cNvSpPr/>
          <p:nvPr/>
        </p:nvSpPr>
        <p:spPr>
          <a:xfrm>
            <a:off x="658800" y="3838680"/>
            <a:ext cx="7770960" cy="903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3200" bIns="43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1" descr="UNESCO-IOC_nowords.png"/>
          <p:cNvPicPr/>
          <p:nvPr/>
        </p:nvPicPr>
        <p:blipFill>
          <a:blip r:embed="rId2"/>
          <a:stretch/>
        </p:blipFill>
        <p:spPr>
          <a:xfrm>
            <a:off x="982800" y="393840"/>
            <a:ext cx="1608120" cy="63504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4"/>
          <p:cNvSpPr/>
          <p:nvPr/>
        </p:nvSpPr>
        <p:spPr>
          <a:xfrm>
            <a:off x="3162240" y="258840"/>
            <a:ext cx="5715000" cy="7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0"/>
                </a:solidFill>
                <a:latin typeface="Arial"/>
                <a:ea typeface="ＭＳ Ｐゴシック"/>
              </a:rPr>
              <a:t>IOC of UNESC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0"/>
                </a:solidFill>
                <a:latin typeface="Arial"/>
                <a:ea typeface="ＭＳ Ｐゴシック"/>
              </a:rPr>
              <a:t>Intergovernmental Coordination Group for th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0"/>
                </a:solidFill>
                <a:latin typeface="Arial"/>
                <a:ea typeface="ＭＳ Ｐゴシック"/>
              </a:rPr>
              <a:t>PacificTsunami Warning and Mitigation System (PTW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90"/>
                </a:solidFill>
                <a:latin typeface="Arial"/>
                <a:ea typeface="ＭＳ Ｐゴシック"/>
              </a:rPr>
              <a:t>December 201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8D53-6A8F-412B-ADBD-DD7A01947F5F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A535-1AEB-4F7A-9ADD-256C668A2CF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C55C4-5748-43A6-AC8A-FBF3C5778F03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8"/>
          </p:nvPr>
        </p:nvSpPr>
        <p:spPr>
          <a:xfrm>
            <a:off x="7012080" y="6517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61427-0486-4258-8DF2-C1F4E99C372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4"/>
          <p:cNvSpPr/>
          <p:nvPr/>
        </p:nvSpPr>
        <p:spPr>
          <a:xfrm>
            <a:off x="592200" y="990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3366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47840" indent="-40176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934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166840" indent="-40464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166840" indent="-4046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CEDC2-731E-482C-ADE5-CBA38FA90816}" type="datetime"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667B5-3328-4EB2-8986-EA3EE9F6D246}" type="slidenum"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1913040"/>
            <a:ext cx="7696440" cy="1735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Exercise Pacific Wave 2017</a:t>
            </a:r>
            <a:br>
              <a:rPr sz="4400"/>
            </a:br>
            <a:r>
              <a:rPr b="1" lang="en-US" sz="4400" spc="-1" strike="noStrike">
                <a:solidFill>
                  <a:srgbClr val="b90000"/>
                </a:solidFill>
                <a:latin typeface="Arial"/>
              </a:rPr>
              <a:t>PacWave17 Overview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16" name="Picture 8" descr="UNESCO-IOC_logo"/>
          <p:cNvPicPr/>
          <p:nvPr/>
        </p:nvPicPr>
        <p:blipFill>
          <a:blip r:embed="rId1"/>
          <a:srcRect l="0" t="0" r="0" b="39757"/>
          <a:stretch/>
        </p:blipFill>
        <p:spPr>
          <a:xfrm>
            <a:off x="609480" y="160200"/>
            <a:ext cx="2278080" cy="1339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2"/>
          <p:cNvSpPr/>
          <p:nvPr/>
        </p:nvSpPr>
        <p:spPr>
          <a:xfrm>
            <a:off x="136440" y="4203720"/>
            <a:ext cx="832500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aura K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national Tsunami Information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Jo Gu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ew Zealand Ministry of Civil Defence &amp; Emergency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omoaki Oza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apan Meteorological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4"/>
          <p:cNvSpPr/>
          <p:nvPr/>
        </p:nvSpPr>
        <p:spPr>
          <a:xfrm>
            <a:off x="533520" y="1295280"/>
            <a:ext cx="800100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Warning / Watch Alert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spcAft>
                <a:spcPts val="1800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Instead, issue Threat Levels:                         4 categori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forecast maximum coastal tsunami wave amplitu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3427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 0.3m (no Threa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3427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3 to &lt; 1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3427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 to 3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3427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 3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74600" indent="-34272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:  Forecast not yet comp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533520" y="198360"/>
            <a:ext cx="777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90000"/>
                </a:solidFill>
                <a:latin typeface="Arial"/>
                <a:ea typeface="Arial"/>
              </a:rPr>
              <a:t>PTWC New Enhanced Produ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3" descr="NOAAlogoclr-[Converted].jpg"/>
          <p:cNvPicPr/>
          <p:nvPr/>
        </p:nvPicPr>
        <p:blipFill>
          <a:blip r:embed="rId1"/>
          <a:stretch/>
        </p:blipFill>
        <p:spPr>
          <a:xfrm>
            <a:off x="8229600" y="5943600"/>
            <a:ext cx="6714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1600" y="-360"/>
            <a:ext cx="935352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orthwest Pacific Tsunami Advisory Centr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96800" y="1368360"/>
            <a:ext cx="843624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lvl="1" marL="479520" indent="-479520">
              <a:lnSpc>
                <a:spcPct val="10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ed and tested – PacWave16, 17   Implement 2018 with ICG/PTWS approv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4795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PTA Forecast Points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sed to       align with PTWC products, and meet   Member States reques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Text Products – continue as befor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Graphical Products – sent by email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479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vel Time 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479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stal Tsunami Amplitude Forecast 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479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-ocean Tsunami Amplitude Forecast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479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スライド番号プレースホルダー 1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31642-CC19-4F71-A721-5B6CF1E445F3}" type="slidenum">
              <a:rPr b="0" lang="ja-JP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" descr="Description: NWPTAcoverage_new"/>
          <p:cNvPicPr/>
          <p:nvPr/>
        </p:nvPicPr>
        <p:blipFill>
          <a:blip r:embed="rId1"/>
          <a:stretch/>
        </p:blipFill>
        <p:spPr>
          <a:xfrm>
            <a:off x="4427640" y="1052640"/>
            <a:ext cx="4494240" cy="4832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4043160" cy="5113440"/>
          </a:xfrm>
          <a:prstGeom prst="rect">
            <a:avLst/>
          </a:prstGeom>
          <a:ln w="0">
            <a:noFill/>
          </a:ln>
        </p:spPr>
      </p:pic>
      <p:sp>
        <p:nvSpPr>
          <p:cNvPr id="256" name="正方形/長方形 1"/>
          <p:cNvSpPr/>
          <p:nvPr/>
        </p:nvSpPr>
        <p:spPr>
          <a:xfrm>
            <a:off x="250920" y="602136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WPTA will be issued to 16 recipient countries when the NWPTAC detects occurrence of an earthquake of  magnitude 6.5 or greater in the blue-shaded are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74160"/>
            <a:ext cx="889308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WPTA Recipient Countres, Area Coverag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スライド番号プレースホルダー 4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D3E0D-DA1E-4BA8-B460-398189D6673C}" type="slidenum">
              <a:rPr b="0" lang="ja-JP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正方形/長方形 7"/>
          <p:cNvSpPr/>
          <p:nvPr/>
        </p:nvSpPr>
        <p:spPr>
          <a:xfrm>
            <a:off x="4917960" y="1268280"/>
            <a:ext cx="404676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map shows the estimated travel time based on determined earthquake location (hypocenter or centroid) and magnitu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正方形/長方形 2"/>
          <p:cNvSpPr/>
          <p:nvPr/>
        </p:nvSpPr>
        <p:spPr>
          <a:xfrm>
            <a:off x="108000" y="907920"/>
            <a:ext cx="4751280" cy="5905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4"/>
          <p:cNvSpPr/>
          <p:nvPr/>
        </p:nvSpPr>
        <p:spPr>
          <a:xfrm>
            <a:off x="5207040" y="3933720"/>
            <a:ext cx="3781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certainties in tsunami source (the area of seafloor deformation is assumed from earthquake location and magnitud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certainties in bathymetry especially in the vicinity of the observation poi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nlinear effects on tsunami propagation which is not taken into account in estimating travel time (the nonlinear effects may be important especially in shallow wate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fficulty in measuring the first wave arrival from observed sea level dat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テキスト ボックス 17"/>
          <p:cNvSpPr/>
          <p:nvPr/>
        </p:nvSpPr>
        <p:spPr>
          <a:xfrm>
            <a:off x="-1170000" y="1987560"/>
            <a:ext cx="10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MA HP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よ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正方形/長方形 5"/>
          <p:cNvSpPr/>
          <p:nvPr/>
        </p:nvSpPr>
        <p:spPr>
          <a:xfrm>
            <a:off x="5062680" y="2852640"/>
            <a:ext cx="3905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Limit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arrival time at the coast may vary from forecast arrival time due to many reasons including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6560" y="30240"/>
            <a:ext cx="8947080" cy="761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WPTAC Products:  Tsunami Travel Tim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5" name="スライド番号プレースホルダー 8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D6006-6417-4218-8BB1-703AFD61FF12}" type="slidenum">
              <a:rPr b="0" lang="ja-JP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3" descr="\\Jp250855\津波\国際\10_PTWS\20160201_PacWave16\40_プロダクト\TTT\TTT_PhilippinTrench.png"/>
          <p:cNvPicPr/>
          <p:nvPr/>
        </p:nvPicPr>
        <p:blipFill>
          <a:blip r:embed="rId1"/>
          <a:stretch/>
        </p:blipFill>
        <p:spPr>
          <a:xfrm>
            <a:off x="141120" y="419040"/>
            <a:ext cx="489600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\\Jp250855\津波\国際\10_PTWS\20160201_PacWave16\40_プロダクト\CoastalAmp\CoastalForecastMap_PhilippineTrench.png"/>
          <p:cNvPicPr/>
          <p:nvPr/>
        </p:nvPicPr>
        <p:blipFill>
          <a:blip r:embed="rId1"/>
          <a:srcRect l="2402" t="5770" r="900" b="1908"/>
          <a:stretch/>
        </p:blipFill>
        <p:spPr>
          <a:xfrm>
            <a:off x="311040" y="928800"/>
            <a:ext cx="4332240" cy="5854680"/>
          </a:xfrm>
          <a:prstGeom prst="rect">
            <a:avLst/>
          </a:prstGeom>
          <a:ln w="0">
            <a:noFill/>
          </a:ln>
        </p:spPr>
      </p:pic>
      <p:sp>
        <p:nvSpPr>
          <p:cNvPr id="268" name="正方形/長方形 11"/>
          <p:cNvSpPr/>
          <p:nvPr/>
        </p:nvSpPr>
        <p:spPr>
          <a:xfrm>
            <a:off x="108000" y="907920"/>
            <a:ext cx="4680000" cy="5905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正方形/長方形 18"/>
          <p:cNvSpPr/>
          <p:nvPr/>
        </p:nvSpPr>
        <p:spPr>
          <a:xfrm>
            <a:off x="4788000" y="1268280"/>
            <a:ext cx="416880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map shows the individual coastal points colored according to the forecast tsunami amplitude at each 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larger of two different forecast amplitudes based on a conjugate fault set obtained by CMT analysis is used  as a forecast tsunami amplitude at each 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正方形/長方形 19"/>
          <p:cNvSpPr/>
          <p:nvPr/>
        </p:nvSpPr>
        <p:spPr>
          <a:xfrm>
            <a:off x="5076720" y="4667400"/>
            <a:ext cx="388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certainties in tsunami source (two rectangular faults are assumed based on the result of CMT analysi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certainties in the way that the tsunami interact with the coast (a general approximation, Green’s Law, is used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正方形/長方形 20"/>
          <p:cNvSpPr/>
          <p:nvPr/>
        </p:nvSpPr>
        <p:spPr>
          <a:xfrm>
            <a:off x="4932360" y="3573360"/>
            <a:ext cx="401472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Limit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tsunami amplitudes at the coast may vary from forecast amplitudes due to many reasons includ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24"/>
          <p:cNvSpPr/>
          <p:nvPr/>
        </p:nvSpPr>
        <p:spPr>
          <a:xfrm>
            <a:off x="4932360" y="6273720"/>
            <a:ext cx="40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results can vary easily by a factor of two because of the uncertainties written abov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8000" y="41400"/>
            <a:ext cx="9036000" cy="761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Coastal Tsunami Amplitude Forecast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4" name="スライド番号プレースホルダー 5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428D7-B67F-4D99-9658-D45B3B31CF5B}" type="slidenum">
              <a:rPr b="0" lang="ja-JP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\\Jp250855\津波\国際\10_PTWS\20160201_PacWave16\40_プロダクト\DeepOcean\NWPTA_PhilippinTrench_02_03_DeepOceanMap.png"/>
          <p:cNvPicPr/>
          <p:nvPr/>
        </p:nvPicPr>
        <p:blipFill>
          <a:blip r:embed="rId1"/>
          <a:srcRect l="3064" t="4696" r="770" b="8661"/>
          <a:stretch/>
        </p:blipFill>
        <p:spPr>
          <a:xfrm>
            <a:off x="250920" y="1085760"/>
            <a:ext cx="4321080" cy="5508720"/>
          </a:xfrm>
          <a:prstGeom prst="rect">
            <a:avLst/>
          </a:prstGeom>
          <a:ln w="0">
            <a:noFill/>
          </a:ln>
        </p:spPr>
      </p:pic>
      <p:sp>
        <p:nvSpPr>
          <p:cNvPr id="276" name="正方形/長方形 9"/>
          <p:cNvSpPr/>
          <p:nvPr/>
        </p:nvSpPr>
        <p:spPr>
          <a:xfrm>
            <a:off x="108000" y="1081080"/>
            <a:ext cx="4680000" cy="554508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正方形/長方形 15"/>
          <p:cNvSpPr/>
          <p:nvPr/>
        </p:nvSpPr>
        <p:spPr>
          <a:xfrm>
            <a:off x="4859280" y="1484280"/>
            <a:ext cx="417672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map shows the maximum tsunami amplitude at each place in the deep oce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t shows how the tsunami is directed away from the tsunami source, how it is focused and defocused by the shape of the seafloor, and how it diminishes by sprea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wo different maps based on a conjugate fault set  obtained by CMT analysis will be provi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正方形/長方形 17"/>
          <p:cNvSpPr/>
          <p:nvPr/>
        </p:nvSpPr>
        <p:spPr>
          <a:xfrm>
            <a:off x="5003640" y="4437000"/>
            <a:ext cx="40323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Limit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deep-ocean tsunami amplitude may vary from forecast amplitudes mainly due to uncertainties in tsunami source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two rectangular faults are assumed based on the result of CMT analysi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map should not be used to estimate coastal tsunami amplitudes or impac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6000" y="123480"/>
            <a:ext cx="892944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ep-ocean Tsunami Amplitude Forecas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0" name="スライド番号プレースホルダー 6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1520AC-29BE-4BEF-8FFA-70BE3A1A3A02}" type="slidenum">
              <a:rPr b="0" lang="ja-JP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PacWave17 - Document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33160" y="1295280"/>
            <a:ext cx="843588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cWave17 web site:  www.pacwave.inf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47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xercise Messages (PTWC, JMA/NWP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47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acWave Exercise Manual (IOC TS 131, 20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47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User’s Guide to PTWC Enhanced Products for the PTWS (IOC TS 105, revised,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47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acWave17 Summary (this p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47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How to Plan, Conduct, and                                 Evaluate IOC Tsunami Wave                          Exercises (IOC M&amp;G 58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3477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acWave17 Announcement                                           (IOC CL 2636, 16 Aug 20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6160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PacWave17 - Evaluation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61600" y="1561680"/>
            <a:ext cx="8381880" cy="435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388080" indent="-388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st-Exercise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35964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Due 10 March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35964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reliminary Results available for                ICG/PTWS-XXVII, 28-31 March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3596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nline: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ttps://www.surveymonkey.com/s/pacwave17_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8080" indent="-388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3596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3596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-3596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00"/>
                </a:solidFill>
                <a:latin typeface="Arial"/>
              </a:rPr>
              <a:t>PacWave17 Timetable</a:t>
            </a:r>
            <a:endParaRPr b="1" lang="en-US" sz="35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50920" y="1430280"/>
          <a:ext cx="8658000" cy="5062680"/>
        </p:xfrm>
        <a:graphic>
          <a:graphicData uri="http://schemas.openxmlformats.org/drawingml/2006/table">
            <a:tbl>
              <a:tblPr/>
              <a:tblGrid>
                <a:gridCol w="2590560"/>
                <a:gridCol w="6067440"/>
              </a:tblGrid>
              <a:tr h="463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4 Nov 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minate PacWave17 National Cont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1 Dec 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Exercise manual (incl scenarios) on www.pacwave.inf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35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31 Jan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Exercise messages pos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15-17 Feb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PacWave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18 Feb -10 Mar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Countries complete and submit evaluation survey on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28 - 31 Mar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Draft Preliminary Results discussed at ICG/PTWS-XXV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21 Apr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Draft PacWave17 Preliminary Report available to Member St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30 Jun 20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73040"/>
                          <a:tab algn="l" pos="946080"/>
                          <a:tab algn="l" pos="1419120"/>
                          <a:tab algn="l" pos="1892160"/>
                          <a:tab algn="l" pos="2365200"/>
                          <a:tab algn="l" pos="2838600"/>
                          <a:tab algn="l" pos="3311640"/>
                          <a:tab algn="l" pos="3784680"/>
                          <a:tab algn="l" pos="4257720"/>
                          <a:tab algn="l" pos="4730760"/>
                          <a:tab algn="l" pos="5203800"/>
                          <a:tab algn="l" pos="5676840"/>
                          <a:tab algn="l" pos="6149880"/>
                          <a:tab algn="l" pos="6622920"/>
                          <a:tab algn="l" pos="7095960"/>
                          <a:tab algn="l" pos="7569360"/>
                          <a:tab algn="l" pos="8042400"/>
                          <a:tab algn="l" pos="8515440"/>
                          <a:tab algn="l" pos="8988480"/>
                          <a:tab algn="l" pos="946152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Final PacWave17 Summary Report on www.pacwave.inf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671560"/>
            <a:ext cx="8707320" cy="1044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 Unicode MS"/>
              </a:rPr>
              <a:t>Exercise Pacific Wave, 2006-2016:                           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Arial Unicode MS"/>
              </a:rPr>
              <a:t>A decade of reflection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17380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xercise Pacific Wave (PacWave)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160" y="1295280"/>
            <a:ext cx="84358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OC-coordinated international tsunami exerci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ed 2006 to test readiness of Pacific countries – 2006, 2008, 2011, 2013, 2015, 2016, 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cWave11, 13, 15 – introduce and test PTWC new enhanced products prior to changeover (1 October 2014), and af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cWave 16, 17 - introduce and test JAM NWPTAC new enhanced products prior to changeover (2018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2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6: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6-17 May 2006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71320" y="1484280"/>
            <a:ext cx="77770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Exercise Purpose: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o test, exercise, evaluate and review the operational lines of communication within the Pacific Tsunami Warning and Mitigation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MS PGothic"/>
              </a:rPr>
              <a:t>System’s area of respons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Participant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Scenario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2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6: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Objective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25240" y="1283760"/>
            <a:ext cx="81406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Validate the Tsunami Warning Centres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dissemination process of issuing tsunami watch and warning bulletins to Pacific basin countrie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alidate the process for countries to receive and confirm tsunami bulletin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alidate dissemination of warning messages to relevant agencies within a country,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ovinces and local jurisdiction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alidate the organisational decision making process about public warnings and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vacuation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dentify the modes that would be employed to notify and instruct the public;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ssess the elapsed time until the public would be notified and instruc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2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8: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8-30 October 2008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71320" y="1484280"/>
            <a:ext cx="777708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Exercise Purpose: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ercise was to evaluate and improve the effectiveness of the PTWS, its operational Tsunami Warning Centers, and its Member States in responding to a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MS PGothic"/>
              </a:rPr>
              <a:t>destructive tsunami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Participant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Scenario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2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8: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Objective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99520" y="1166760"/>
            <a:ext cx="85345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0080" indent="-460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Validate the international Tsunami Warning [or Advisory] Centers’ dissemination process of issuing Tsunami Watch and Warning Bulletins to Pacific countrie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Validate the process of countries receiving and confirming Tsunami Bulletins through their designated focal poi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Validate dissemination of warning messages to relevant agencies within a country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Validate the organizational decision making process about public warnings and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  <a:ea typeface="MS PGothic"/>
              </a:rPr>
              <a:t>evacuation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dentify the methods that would be used to notify and instruct the public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ssess the elapsed time until the public would be notified and instruc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0080" indent="-460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2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Real Tsunami events:  2009-2011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49400" y="1250640"/>
            <a:ext cx="923256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8.0 Samoa -  29 September 200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amoa – 149 deaths, -20% GDP 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merican Samoa – 34 deaths, $90 million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iuatoputapu Island, Tonga – 9 deaths,                airport inoperable (debris), so at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nly ship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8.8 Chile – 27 February 20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56 deaths, $600 million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ivil court cases (ONEMI, SHOA li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9.0 Japan – 11 March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18,000 dead or missing, $6 billion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920" indent="-4442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ivil court cases (Ishinomaki, school liable,                  74 school-children di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2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Improving Exercise Conduc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82240" y="1325160"/>
            <a:ext cx="9132840" cy="559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Plan, Conduct and Evaluate         UNESCO/IOC Tsunami Wave Exercises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OC, Manual &amp; Guides 58, 2013, English, Spanish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Z Ministry of Civil Defence and Emergency Management, ITIC collabo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used PacWave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Screen Shot 2016-11-07 at 5.37.22 PM.png"/>
          <p:cNvPicPr/>
          <p:nvPr/>
        </p:nvPicPr>
        <p:blipFill>
          <a:blip r:embed="rId1"/>
          <a:stretch/>
        </p:blipFill>
        <p:spPr>
          <a:xfrm>
            <a:off x="6945480" y="3921120"/>
            <a:ext cx="1739880" cy="2449440"/>
          </a:xfrm>
          <a:prstGeom prst="rect">
            <a:avLst/>
          </a:prstGeom>
          <a:ln w="3240">
            <a:solidFill>
              <a:srgbClr val="ced5dd"/>
            </a:solidFill>
            <a:miter/>
          </a:ln>
        </p:spPr>
      </p:pic>
      <p:pic>
        <p:nvPicPr>
          <p:cNvPr id="301" name="Picture 5" descr="Screen Shot 2016-11-07 at 5.36.54 PM.png"/>
          <p:cNvPicPr/>
          <p:nvPr/>
        </p:nvPicPr>
        <p:blipFill>
          <a:blip r:embed="rId2"/>
          <a:stretch/>
        </p:blipFill>
        <p:spPr>
          <a:xfrm>
            <a:off x="4849920" y="3902040"/>
            <a:ext cx="1735200" cy="2468520"/>
          </a:xfrm>
          <a:prstGeom prst="rect">
            <a:avLst/>
          </a:prstGeom>
          <a:ln w="3240">
            <a:solidFill>
              <a:srgbClr val="ced5dd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2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11: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9-10 November 2011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71320" y="1484280"/>
            <a:ext cx="750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Exercise Purpose: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improve local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onal source tsunami warning and response capability in the Pacif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Participant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Scenario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11:  Objectives 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2280" y="1218960"/>
            <a:ext cx="87710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exercise and evaluate operations of the current PTWS, inclu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alidate the issuance of tsunami advice from PTWC, JMA/NWPTAC and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  <a:ea typeface="MS PGothic"/>
              </a:rPr>
              <a:t>WCATW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alidate receipt of this tsunami advice by Pacific Country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  <a:ea typeface="MS PGothic"/>
              </a:rPr>
              <a:t>TW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a process of exposure to an initial test version of PTWC experimental products that were being developed to provide a more rapid and quantitative forecast of tsunami impac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Review and evaluate PTWC experimental products that will be available in parallel with existing PTWC products for each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  <a:ea typeface="MS PGothic"/>
              </a:rPr>
              <a:t>scenario exerci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vide feedback on the staging, format, and content of the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  <a:ea typeface="MS PGothic"/>
              </a:rPr>
              <a:t>experimental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validate the readiness of Member States to respond to a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local/regional source tsunami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alidate the operational readiness of the National Tsunami Warning Centre (NTWC), or similar in-country function, and/or the National Disaster Management Office (NDM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Improve operational readiness. Before the exercise, en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appropriate tools and response plan(s) have been develope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  <a:ea typeface="MS PGothic"/>
              </a:rPr>
              <a:t>including public education materia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alidate dissemination of warnings and information/advice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NTWC to relevant in-country agencies and the public is accurate and tim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alidate the organisational decision-making process about </a:t>
            </a:r>
            <a:r>
              <a:rPr b="0" lang="en-NZ" sz="1600" spc="-1" strike="noStrike">
                <a:solidFill>
                  <a:srgbClr val="000000"/>
                </a:solidFill>
                <a:latin typeface="Arial"/>
                <a:ea typeface="MS PGothic"/>
              </a:rPr>
              <a:t>public warnings and evacu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alidate the method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d to notify and instruct the public are 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  <a:ea typeface="MS PGothic"/>
              </a:rPr>
              <a:t>accurate and tim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2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13: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-14 May 2013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2520" y="1185840"/>
            <a:ext cx="8399520" cy="60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Exercise Purpose: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aim of PacWave13 is to validate the understanding and use of the PTWC Enhanced Produc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4572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valuate the format and content of the PTWC Enhanced Products for each scenario exerc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4572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ovide feedback that a country is prepared to officially receive and implement and utilize the PTWC Enhance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4280" indent="-4572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rovide feedback that a country’s stakeholder agencies will be informed on the PTWC Enhanced Products so as to make appropriate future changes to their Standard Operating Procedu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0000"/>
                </a:solidFill>
                <a:latin typeface="Arial"/>
                <a:ea typeface="Arial"/>
              </a:rPr>
              <a:t>Participant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0000"/>
                </a:solidFill>
                <a:latin typeface="Arial"/>
                <a:ea typeface="Arial"/>
              </a:rPr>
              <a:t>Scenario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2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15: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2-6 February 2015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2160" y="1270080"/>
            <a:ext cx="8381880" cy="525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Exercise Purpose: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Arial"/>
              </a:rPr>
              <a:t>test the new PTWC Enhanced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Arial"/>
              </a:rPr>
              <a:t>Test communications from the PTWS Tsunami Service Providers to Countr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Arial"/>
              </a:rPr>
              <a:t>Test whether the PTWS PTWC Tsunami Service Provider products are interpreted by countries accurately and in a timely mann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  <a:ea typeface="Arial"/>
              </a:rPr>
              <a:t>Test national and regional cooper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Participant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Scenario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3588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 16 and 17 – Overall Goal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6560" y="1371600"/>
            <a:ext cx="867744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st NWPTAC new products prior to implementation through 2 PacWave exerci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cWave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mall-scale exercise with 16 countries         that receive NWPTAC produ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able-top exercise recommen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cWave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ull-scale exercise with all Member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ncourage additional activities over and above table top exerci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9240"/>
            <a:ext cx="839304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15 - Evaluation Summary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160" y="1204560"/>
            <a:ext cx="7824600" cy="5126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4000"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Majority received messages in timely manner without iss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Majority ranked the text message as most useful 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KMZ file least useful 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Format and content of products clear and easy to interpr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Respondents understand the contents of the enhanced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Information provided assists with decision ma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AC158-EC3F-4EBD-96AF-1FA29A72335B}" type="slidenum">
              <a:rPr b="0" lang="en-US" sz="8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36240" y="1217160"/>
            <a:ext cx="8421480" cy="5110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3000"/>
          </a:bodyPr>
          <a:p>
            <a:pPr marL="445680" indent="-445680">
              <a:lnSpc>
                <a:spcPct val="90000"/>
              </a:lnSpc>
              <a:spcBef>
                <a:spcPts val="1599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ntries open to receiving higher  resolution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90000"/>
              </a:lnSpc>
              <a:spcBef>
                <a:spcPts val="1599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TWC/NDMOs have activation and    response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90000"/>
              </a:lnSpc>
              <a:spcBef>
                <a:spcPts val="1599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Respondents used national tsunami    experts to help assess threat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90000"/>
              </a:lnSpc>
              <a:spcBef>
                <a:spcPts val="1599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40% of respondents have tsunami related curriculum programmes in all levels of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ct val="90000"/>
              </a:lnSpc>
              <a:spcBef>
                <a:spcPts val="1599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Stakeholder agencies have a better understanding of their goals, responsibilities and roles in tsunami emergenc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78002-EBEE-43BC-BBCA-FA1F7E3F88A5}" type="slidenum">
              <a:rPr b="0" lang="en-US" sz="8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39240"/>
            <a:ext cx="839304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15 - Evaluation Summary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72760" y="1407600"/>
            <a:ext cx="8204040" cy="5110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  <a:ea typeface="Angsana New"/>
              </a:rPr>
              <a:t>Tsunami Warning Focal Point contact data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Issue: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FP contact information needs           to be 100% accurate 100% of the tim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Recommendation: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untries to routinely review contact information, inform IOC (who will then forward to Tsunami Service Providers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A526C-AA31-4A89-978B-969AB30ECA8A}" type="slidenum">
              <a:rPr b="0" lang="en-US" sz="8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itle 1"/>
          <p:cNvSpPr/>
          <p:nvPr/>
        </p:nvSpPr>
        <p:spPr>
          <a:xfrm>
            <a:off x="573120" y="187200"/>
            <a:ext cx="820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3600" spc="-1" strike="noStrike">
                <a:solidFill>
                  <a:srgbClr val="cc0000"/>
                </a:solidFill>
                <a:latin typeface="Arial"/>
              </a:rPr>
              <a:t>PacWave15 - Recommendations</a:t>
            </a:r>
            <a:r>
              <a:rPr b="1" lang="en-NZ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15 - Recommendations</a:t>
            </a:r>
            <a:r>
              <a:rPr b="1" lang="en-NZ" sz="3200" spc="-1" strike="noStrike">
                <a:solidFill>
                  <a:srgbClr val="cc0000"/>
                </a:solidFill>
                <a:latin typeface="Calibri"/>
                <a:ea typeface="MS PGothic"/>
              </a:rPr>
              <a:t>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407600"/>
            <a:ext cx="8075520" cy="5110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ngsana New"/>
              </a:rPr>
              <a:t>Exercise Plann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Issue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ufficient time provided to fully prepare for the exerci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Recommendation: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OC to announce future PacWave activities at least 6 months pri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ercise manual to be published            3 months pri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sunami Service Providers to provide products at least 1 month prior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BAC922-9AA3-46FB-8D40-E1F6CAE0EE9D}" type="slidenum">
              <a:rPr b="0" lang="en-US" sz="8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73120" y="1258560"/>
            <a:ext cx="7494480" cy="5110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8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  <a:ea typeface="Angsana New"/>
              </a:rPr>
              <a:t>Community Preparednes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Issue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5% of countries do not have evacuation maps, signs, routes, assembly areas etc.  This hampers a community to plan for tsunami respons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Recommendation: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24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OC and Member States should support preparedness efforts as highest priority.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24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 communities should have tsunami evacuation ma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31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85793-D791-409E-9685-690087E57E08}" type="slidenum">
              <a:rPr b="0" lang="en-US" sz="8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tle 1"/>
          <p:cNvSpPr/>
          <p:nvPr/>
        </p:nvSpPr>
        <p:spPr>
          <a:xfrm>
            <a:off x="573120" y="187200"/>
            <a:ext cx="8410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3600" spc="-1" strike="noStrike">
                <a:solidFill>
                  <a:srgbClr val="cc0000"/>
                </a:solidFill>
                <a:latin typeface="Arial"/>
              </a:rPr>
              <a:t>PacWave15 - Recommendations</a:t>
            </a:r>
            <a:r>
              <a:rPr b="1" lang="en-NZ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573120" y="1407600"/>
            <a:ext cx="7980480" cy="5110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ngsana New"/>
              </a:rPr>
              <a:t>Routine exerci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Issu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% of countries do not conduct annual, routine tsunami exerci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Recommendatio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ries are encouraged to conduct annual tsunami exercises (starting with small, controllable coastal school drills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343080">
              <a:lnSpc>
                <a:spcPct val="100000"/>
              </a:lnSpc>
              <a:spcBef>
                <a:spcPts val="1349"/>
              </a:spcBef>
              <a:buClr>
                <a:srgbClr val="cc0000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BE9D4-2245-4BE9-8857-A74D41F42CE4}" type="slidenum">
              <a:rPr b="0" lang="en-US" sz="8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itle 1"/>
          <p:cNvSpPr/>
          <p:nvPr/>
        </p:nvSpPr>
        <p:spPr>
          <a:xfrm>
            <a:off x="573120" y="187200"/>
            <a:ext cx="8570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3600" spc="-1" strike="noStrike">
                <a:solidFill>
                  <a:srgbClr val="cc0000"/>
                </a:solidFill>
                <a:latin typeface="Arial"/>
              </a:rPr>
              <a:t>PacWave15 - Recommendations</a:t>
            </a:r>
            <a:r>
              <a:rPr b="1" lang="en-NZ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573120" y="1209240"/>
            <a:ext cx="8259840" cy="5480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8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Angsana New"/>
              </a:rPr>
              <a:t>Conduct of future ex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Issu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acWave exercises have been conducted in controlled, moderately-paced timelines, in a table-top format. Many countries are now ready to move towards more realistic exercise response timelin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Recommendation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PacWave exercises should be conducted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 time, initially during the daytime working hours with full staff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Later, consideration should be given to real time exercises simulating minimal staff during night time or weekend hou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012080" y="65181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5E29A-F4FA-4725-AE2D-AA9BEDDC340F}" type="slidenum">
              <a:rPr b="0" lang="en-US" sz="8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573120" y="187200"/>
            <a:ext cx="8259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NZ" sz="3600" spc="-1" strike="noStrike">
                <a:solidFill>
                  <a:srgbClr val="cc0000"/>
                </a:solidFill>
                <a:latin typeface="Arial"/>
              </a:rPr>
              <a:t>PacWave15 - Recommendations</a:t>
            </a:r>
            <a:r>
              <a:rPr b="1" lang="en-NZ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44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MS PGothic"/>
              </a:rPr>
              <a:t>PacWave16: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-5 February 2016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4440" y="1219320"/>
            <a:ext cx="8381880" cy="525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Exercise Purpos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im of PacWave16 is to evaluate experimental NWPTAC Enhanced Products and identify necessary modification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e the format and content of experimental NWPTAC Enhanced Produ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whether countries are prepared to officially receive and utilize the NWPTAC Enhanced Produ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Participant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0000"/>
                </a:solidFill>
                <a:latin typeface="Arial"/>
                <a:ea typeface="Arial"/>
              </a:rPr>
              <a:t>Scenario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925560" y="4118040"/>
            <a:ext cx="7532640" cy="2892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Dr. Laura Kong, I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aura.kong@noaa.g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Jo Guard, MCD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jo.guard@dpmc.govt.n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omoaki Ozaki, J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zaki@met.kishou.go.j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685800" y="2671560"/>
            <a:ext cx="7772400" cy="10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50000"/>
                </a:solidFill>
                <a:latin typeface="Arial"/>
                <a:ea typeface="MS PGothic"/>
              </a:rPr>
              <a:t>Thank You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3588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MS PGothic"/>
              </a:rPr>
              <a:t>PacWave Planning, Conduct, Evalu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1295280"/>
            <a:ext cx="843588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acWave Exercises Task T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hree co-chai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Laura Kong - I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o Guard - New Ze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omoaki Ozaki - 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Members - same for PacWave16 and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viana Dionicio – Colo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un-Hee Lee – K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Yuelong Miao –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Jerome Aucau – New Caled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ominique Reymond – French Polyn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acheslav Gusiakov  and Tatiana Ivelskaya –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Chip McCreery – PT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4572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28180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acWave17 – Date and Purpose 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Web Site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acwave.inf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ouncement: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C CL 2636 issued 16 August 20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06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-17 February 2017:                                        PTWS Exercise Pacific Wave “PacWave17”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rcise Purpose: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m of PacWave17 is to test the NWPTAC enhanced products and PTWC enhanced products.  Proposed new SCSTAC products tested in parallel with PacWave1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9520" indent="-47952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PacWave17 – Objectives 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1295280"/>
            <a:ext cx="77580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Aft>
                <a:spcPts val="2401"/>
              </a:spcAft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est communications from the PTWS PTWC and NWPTAC Tsunami Service Providers to Member Stat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Aft>
                <a:spcPts val="2401"/>
              </a:spcAft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est whether the PTWS PTWC and NWPTAC Tsunami Service Provider products are interpreted by Member States accurately and in a timely manner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Aft>
                <a:spcPts val="2401"/>
              </a:spcAft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est national and regional communication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Aft>
                <a:spcPts val="2401"/>
              </a:spcAft>
              <a:buClr>
                <a:srgbClr val="cc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est national and regional cooperation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225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0000"/>
                </a:solidFill>
                <a:latin typeface="Arial"/>
                <a:ea typeface="Arial"/>
              </a:rPr>
              <a:t>PacWave17 – 7 Scenario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42720" y="1186920"/>
            <a:ext cx="8839080" cy="41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4680" rIns="94680" tIns="47520" bIns="47520" anchor="t">
            <a:normAutofit fontScale="83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ll scenarios:  Magnitude: M9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pth 20 km (except Manil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nila Trench (Depth 35 k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w Britain-San Cristobal Trench (PacWave1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ew Hebrides Trench (PacWave1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nga Trench (PacWave11, 1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eru-Chile Trench (PacWave1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lombia-Ecuador Trench (PacWave1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7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7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7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" descr="enrg.0093601.20110721165559_-23.6_-175.5_20_9.0.1.jpg"/>
          <p:cNvPicPr/>
          <p:nvPr/>
        </p:nvPicPr>
        <p:blipFill>
          <a:blip r:embed="rId1"/>
          <a:stretch/>
        </p:blipFill>
        <p:spPr>
          <a:xfrm>
            <a:off x="4597560" y="5470560"/>
            <a:ext cx="1334880" cy="1224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enrg.0093601.20110721163254_-14.3_166.2_20_9.0.1.jpg"/>
          <p:cNvPicPr/>
          <p:nvPr/>
        </p:nvPicPr>
        <p:blipFill>
          <a:blip r:embed="rId2"/>
          <a:stretch/>
        </p:blipFill>
        <p:spPr>
          <a:xfrm>
            <a:off x="3073320" y="5470560"/>
            <a:ext cx="1355760" cy="1224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enrg.0093601.20110721170503_1.0_-81.5_20_9.0.1.jpg"/>
          <p:cNvPicPr/>
          <p:nvPr/>
        </p:nvPicPr>
        <p:blipFill>
          <a:blip r:embed="rId3"/>
          <a:stretch/>
        </p:blipFill>
        <p:spPr>
          <a:xfrm>
            <a:off x="7586640" y="5470560"/>
            <a:ext cx="1343160" cy="1224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Deep_Ocean_Forecast_Pacific_Wide.jpg"/>
          <p:cNvPicPr/>
          <p:nvPr/>
        </p:nvPicPr>
        <p:blipFill>
          <a:blip r:embed="rId4"/>
          <a:stretch/>
        </p:blipFill>
        <p:spPr>
          <a:xfrm>
            <a:off x="1609560" y="5470560"/>
            <a:ext cx="1295640" cy="1224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peru03_Deep_Ocean_Forecast_Pacific_Wide.jpg"/>
          <p:cNvPicPr/>
          <p:nvPr/>
        </p:nvPicPr>
        <p:blipFill>
          <a:blip r:embed="rId5"/>
          <a:stretch/>
        </p:blipFill>
        <p:spPr>
          <a:xfrm>
            <a:off x="6100920" y="5470560"/>
            <a:ext cx="1317600" cy="1224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max_amp1.jpg"/>
          <p:cNvPicPr/>
          <p:nvPr/>
        </p:nvPicPr>
        <p:blipFill>
          <a:blip r:embed="rId6"/>
          <a:srcRect l="5342" t="5187" r="4941" b="15555"/>
          <a:stretch/>
        </p:blipFill>
        <p:spPr>
          <a:xfrm>
            <a:off x="160200" y="5470560"/>
            <a:ext cx="129708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81516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PacWave17 – Conduc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0" y="1295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ercise Date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vent start live, but may conduct on diff date /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5 Feb:  Colombia-Ecu, Peru-Chile, To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6 Feb:  New Hebrides, San Cristobal, Man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ercise Type and Participants – Recommen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bletop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nimum participation:  NTWC, ND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ch Country - exercise 1 Tsunami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SP Messages (on web si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PTWC, JMA NWP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905040" indent="-4572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Live ‘Dummy Text’ messages to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4"/>
          <p:cNvSpPr/>
          <p:nvPr/>
        </p:nvSpPr>
        <p:spPr>
          <a:xfrm>
            <a:off x="442800" y="1104840"/>
            <a:ext cx="8458200" cy="56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 threat on wave forecast models, not on pre-determined magnitude thresho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ecasts constrained by EQ mechanism (W-CMT) and sea level rea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Public Text Msg continu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–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ummary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Graphical forecasts and Statistics table only to Country Tsunami Warning Focal Points (TWF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088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astal Tsunami Amplitude Forecast Polygon Map - Over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088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eep-Ocean Tsunami Amplitude Forecast Map – Pacific-w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088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astal Tsunami Amplitude Forecast Map –                                         Pacific-wide and Regional, with Tsunami Travel Ti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088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astal Tsunami Amplitude Forecast KMZ– input to Google Ear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088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ble of Forecast Statistics for Regional Polyg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088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533520" y="6019920"/>
            <a:ext cx="8420040" cy="1409760"/>
            <a:chOff x="533520" y="6019920"/>
            <a:chExt cx="8420040" cy="1409760"/>
          </a:xfrm>
        </p:grpSpPr>
        <p:pic>
          <p:nvPicPr>
            <p:cNvPr id="240" name="Picture 9" descr=""/>
            <p:cNvPicPr/>
            <p:nvPr/>
          </p:nvPicPr>
          <p:blipFill>
            <a:blip r:embed="rId1"/>
            <a:stretch/>
          </p:blipFill>
          <p:spPr>
            <a:xfrm>
              <a:off x="2149200" y="6019920"/>
              <a:ext cx="1357920" cy="8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0" descr=""/>
            <p:cNvPicPr/>
            <p:nvPr/>
          </p:nvPicPr>
          <p:blipFill>
            <a:blip r:embed="rId2"/>
            <a:stretch/>
          </p:blipFill>
          <p:spPr>
            <a:xfrm>
              <a:off x="3578400" y="6019920"/>
              <a:ext cx="135648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533520" y="6061680"/>
              <a:ext cx="1527480" cy="82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" descr="Screen Shot 2013-05-02 at 11.33.42 PM.png"/>
            <p:cNvPicPr/>
            <p:nvPr/>
          </p:nvPicPr>
          <p:blipFill>
            <a:blip r:embed="rId4"/>
            <a:stretch/>
          </p:blipFill>
          <p:spPr>
            <a:xfrm>
              <a:off x="5069880" y="6019920"/>
              <a:ext cx="388368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2" descr=""/>
            <p:cNvPicPr/>
            <p:nvPr/>
          </p:nvPicPr>
          <p:blipFill>
            <a:blip r:embed="rId5"/>
            <a:stretch/>
          </p:blipFill>
          <p:spPr>
            <a:xfrm>
              <a:off x="6188400" y="6525000"/>
              <a:ext cx="117540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" descr="Screen Shot 2014-08-04 at 9.24.27 AM.png"/>
            <p:cNvPicPr/>
            <p:nvPr/>
          </p:nvPicPr>
          <p:blipFill>
            <a:blip r:embed="rId6"/>
            <a:stretch/>
          </p:blipFill>
          <p:spPr>
            <a:xfrm>
              <a:off x="5069880" y="6525000"/>
              <a:ext cx="1056240" cy="47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3" descr="NOAAlogoclr-[Converted].jpg"/>
          <p:cNvPicPr/>
          <p:nvPr/>
        </p:nvPicPr>
        <p:blipFill>
          <a:blip r:embed="rId7"/>
          <a:stretch/>
        </p:blipFill>
        <p:spPr>
          <a:xfrm>
            <a:off x="8229600" y="5943600"/>
            <a:ext cx="671400" cy="695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435880" cy="76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0000"/>
                </a:solidFill>
                <a:latin typeface="Arial"/>
                <a:ea typeface="Arial"/>
              </a:rPr>
              <a:t>PTWC New Enhanced Product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7T08:07:59Z</dcterms:created>
  <dc:creator>TC</dc:creator>
  <dc:description/>
  <cp:keywords/>
  <dc:language>en-US</dc:language>
  <cp:lastModifiedBy>Laura Kong</cp:lastModifiedBy>
  <cp:lastPrinted>2016-11-08T12:40:27Z</cp:lastPrinted>
  <dcterms:modified xsi:type="dcterms:W3CDTF">2016-12-30T17:55:42Z</dcterms:modified>
  <cp:revision>224</cp:revision>
  <dc:subject/>
  <dc:title>Exercise Pacific Wave Past, Present, Future</dc:title>
</cp:coreProperties>
</file>