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2.jpeg" ContentType="image/jpeg"/>
  <Override PartName="/ppt/media/image11.png" ContentType="image/png"/>
  <Override PartName="/ppt/media/image9.jpeg" ContentType="image/jpeg"/>
  <Override PartName="/ppt/media/image16.png" ContentType="image/png"/>
  <Override PartName="/ppt/media/image14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jpeg" ContentType="image/jpeg"/>
  <Override PartName="/ppt/media/image4.jpeg" ContentType="image/jpeg"/>
  <Override PartName="/ppt/media/image6.jpeg" ContentType="image/jpeg"/>
  <Override PartName="/ppt/media/image7.png" ContentType="image/pn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dt" idx="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753203-468B-46EA-BFC9-35F0E1538F7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Eras Bold ITC"/>
              </a:rPr>
              <a:t>Click to move the slide</a:t>
            </a:r>
            <a:endParaRPr b="0" lang="en-US" sz="2900" spc="-1" strike="noStrike">
              <a:solidFill>
                <a:srgbClr val="000066"/>
              </a:solidFill>
              <a:latin typeface="Eras Bold ITC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 type="ftr" idx="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 type="sldNum" idx="1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A973DE-57EA-4C34-9B7F-F185D25E04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A210918-2BEE-4BBE-9257-ACC23077BB8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1560" y="684360"/>
            <a:ext cx="4574880" cy="343188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D9436C-E0DA-49F8-9FEA-078A6A930D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ease see explanation i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rs Guide for the Pacific Tsunami Warning Center Enhanced Products for the Pacific Tsunami Warning System. IOC Technical Series No 105, Revised edition. UNESCO/IOC, 2014 (English; Spanish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vailable for download at http://ptws-ptwcnewproducts.inf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EA1654A-C8DE-45E3-98A4-54EB98D9C3EA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ease see explanation i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rs Guide for the Pacific Tsunami Warning Center Enhanced Products for the Pacific Tsunami Warning System. IOC Technical Series No 105, Revised edition. UNESCO/IOC, 2014 (English; Spanish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vailable for download at http://ptws-ptwcnewproducts.inf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2BD9328-CB7C-421B-B7BB-C22A2C9094E7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7DA3A-F473-4085-B439-0CFBCD54F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2B528-EAF9-42B2-84F7-4E190FA6D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7A490-0396-4253-99E7-52BA84A94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15350-714C-4ACF-A991-D9C1AB4A0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4A0ABD-4D96-44D9-A73B-70C41BF4723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657FBD-7FA4-4348-B540-FAA6C2C92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61A0AE-45E6-4C6D-9DE4-9ABA2E514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DC178D-6714-458D-9589-E0D4F2A0F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25A8B8-DB31-4577-95D1-F4092E44C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43A822-BFEF-4FD4-9EDB-20468ADC0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D456F0-5665-450A-966F-99986FF45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5D7A0-00A4-42B5-8184-B4FB51DCB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A01F5C-8CEC-4AF2-8F82-7848A8D91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A215A1-5338-4396-B4A7-8BD621CB1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3795D3-765D-4777-B3EF-B97996D55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5ACC80-FA0D-4F5F-8CE4-E795D2F49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692D57-A144-44C9-907F-194F6F17490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47C54-845A-4751-8224-9D2054EEB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D2B51BA-E4B1-477F-B662-30C973A621E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3112C7F-AF1E-4733-8551-DB3723683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03E74ED-E911-4BF1-AFC0-BB2D7888B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67E87-C076-4917-9A6F-E8BC7CB95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14124F1-CA78-4E8B-8C3A-15F05D9BD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CAFB0CB-8009-444D-BADD-84D2CD763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88E9E61-1C73-49BA-9C31-D0F8EAB35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3381671-43BA-4E17-B9A1-F7ED80CBF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26DF48C-50F7-42CB-8A33-13978D4C0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ED8E9DE-534E-4EA9-A0D5-31CC3AE29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A85AF33-A89D-4FA0-ABEF-C44702B83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BCEEA37-D1D6-444D-9F5B-F1B8DA34F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83FDEC3-F36F-4137-9825-E9D4D2B9F12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23D77-1042-42E2-A9E9-507A3A5D9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A752C-8AE3-4377-B59F-E995CF513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62232-E36E-4308-81F4-8B18D0D58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E5D57-4B89-447D-AFA3-A3C84486E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76C62-7597-48D3-A5BD-D1F32BA3B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6D2EFC-F3CA-4516-BBDA-3DA9591BF151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12080" y="65178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8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FDF36F1-2710-422D-B565-C1ECB95F7C69}" type="slidenum">
              <a:rPr b="0" lang="en-US" sz="8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31680" y="1327320"/>
            <a:ext cx="9080640" cy="759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4f81b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ctr">
            <a:noAutofit/>
          </a:bodyPr>
          <a:p>
            <a:pPr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Eras Bold ITC"/>
              </a:rPr>
              <a:t>Click to edit the title text format</a:t>
            </a:r>
            <a:endParaRPr b="0" lang="en-US" sz="2900" spc="-1" strike="noStrike">
              <a:solidFill>
                <a:srgbClr val="000066"/>
              </a:solidFill>
              <a:latin typeface="Eras Bold IT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B3C6450-1302-4E3A-A38C-0BE934B31879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304920" y="838080"/>
            <a:ext cx="8381880" cy="76320"/>
          </a:xfrm>
          <a:prstGeom prst="rect">
            <a:avLst/>
          </a:prstGeom>
          <a:gradFill rotWithShape="0">
            <a:gsLst>
              <a:gs pos="0">
                <a:srgbClr val="3333cc">
                  <a:alpha val="71372"/>
                </a:srgbClr>
              </a:gs>
              <a:gs pos="50000">
                <a:srgbClr val="00cc99">
                  <a:alpha val="75294"/>
                </a:srgbClr>
              </a:gs>
              <a:gs pos="100000">
                <a:srgbClr val="3333cc">
                  <a:alpha val="71372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0000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33160" y="1295280"/>
            <a:ext cx="84358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8360" indent="-46836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06480" indent="-43488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303200" indent="-39348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92360" indent="-38592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92320" indent="-39672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92320" indent="-3967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92320" indent="-3967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4"/>
          <p:cNvSpPr/>
          <p:nvPr/>
        </p:nvSpPr>
        <p:spPr>
          <a:xfrm>
            <a:off x="592200" y="990720"/>
            <a:ext cx="795816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003366"/>
          </a:solidFill>
          <a:ln w="936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04920" y="838080"/>
            <a:ext cx="8381880" cy="76320"/>
          </a:xfrm>
          <a:prstGeom prst="rect">
            <a:avLst/>
          </a:prstGeom>
          <a:gradFill rotWithShape="0">
            <a:gsLst>
              <a:gs pos="0">
                <a:srgbClr val="3333cc">
                  <a:alpha val="71372"/>
                </a:srgbClr>
              </a:gs>
              <a:gs pos="50000">
                <a:srgbClr val="00cc99">
                  <a:alpha val="75294"/>
                </a:srgbClr>
              </a:gs>
              <a:gs pos="100000">
                <a:srgbClr val="3333cc">
                  <a:alpha val="71372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ctr">
            <a:noAutofit/>
          </a:bodyPr>
          <a:p>
            <a:pPr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Eras Bold ITC"/>
              </a:rPr>
              <a:t>Click to edit the title text format</a:t>
            </a:r>
            <a:endParaRPr b="0" lang="en-US" sz="2900" spc="-1" strike="noStrike">
              <a:solidFill>
                <a:srgbClr val="000066"/>
              </a:solidFill>
              <a:latin typeface="Eras Bold IT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dt" idx="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sldNum" idx="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46A21BD-9832-4D94-983C-E7FDA884FDAB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pn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image" Target="../media/image14.jpeg"/><Relationship Id="rId8" Type="http://schemas.openxmlformats.org/officeDocument/2006/relationships/slideLayout" Target="../slideLayouts/slideLayout25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9"/>
          <p:cNvSpPr/>
          <p:nvPr/>
        </p:nvSpPr>
        <p:spPr>
          <a:xfrm>
            <a:off x="228600" y="1969920"/>
            <a:ext cx="19224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7520" bIns="47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Rectangle 16"/>
          <p:cNvSpPr/>
          <p:nvPr/>
        </p:nvSpPr>
        <p:spPr>
          <a:xfrm>
            <a:off x="352440" y="2359080"/>
            <a:ext cx="7848720" cy="1527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 Black"/>
                <a:ea typeface="Arial Unicode MS"/>
              </a:rPr>
              <a:t>Exercise Pacific Wave 2015 (PacWave15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 Black"/>
                <a:ea typeface="Arial Unicode MS"/>
              </a:rPr>
              <a:t>2-6 February 2015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AutoShape 17"/>
          <p:cNvSpPr/>
          <p:nvPr/>
        </p:nvSpPr>
        <p:spPr>
          <a:xfrm flipH="1">
            <a:off x="577800" y="4067280"/>
            <a:ext cx="7623360" cy="83880"/>
          </a:xfrm>
          <a:custGeom>
            <a:avLst/>
            <a:gdLst>
              <a:gd name="textAreaLeft" fmla="*/ 360 w 7623360"/>
              <a:gd name="textAreaRight" fmla="*/ 7624080 w 7623360"/>
              <a:gd name="textAreaTop" fmla="*/ 0 h 83880"/>
              <a:gd name="textAreaBottom" fmla="*/ 84240 h 8388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000080"/>
          </a:solidFill>
          <a:ln w="93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Text Box 14"/>
          <p:cNvSpPr/>
          <p:nvPr/>
        </p:nvSpPr>
        <p:spPr>
          <a:xfrm>
            <a:off x="3809880" y="304920"/>
            <a:ext cx="5697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Bold"/>
                <a:ea typeface="Arial Bold"/>
              </a:rPr>
              <a:t>PacWave15 Summary Brie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Bold"/>
                <a:ea typeface="Arial Bold"/>
              </a:rPr>
              <a:t>February 20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2" name="Picture 8" descr="UNESCO-IOC_logo"/>
          <p:cNvPicPr/>
          <p:nvPr/>
        </p:nvPicPr>
        <p:blipFill>
          <a:blip r:embed="rId1"/>
          <a:srcRect l="0" t="0" r="0" b="39757"/>
          <a:stretch/>
        </p:blipFill>
        <p:spPr>
          <a:xfrm>
            <a:off x="492120" y="228600"/>
            <a:ext cx="2278080" cy="1339920"/>
          </a:xfrm>
          <a:prstGeom prst="rect">
            <a:avLst/>
          </a:prstGeom>
          <a:ln w="0">
            <a:noFill/>
          </a:ln>
        </p:spPr>
      </p:pic>
      <p:sp>
        <p:nvSpPr>
          <p:cNvPr id="173" name="Text Box 2"/>
          <p:cNvSpPr/>
          <p:nvPr/>
        </p:nvSpPr>
        <p:spPr>
          <a:xfrm>
            <a:off x="577800" y="4495680"/>
            <a:ext cx="8325000" cy="32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ura Ko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national Tsunami Information Cen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Jo Guar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New Zealand Ministry of Civil Defence and Emergency Manag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63400" y="182520"/>
            <a:ext cx="7772400" cy="10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d50000"/>
                </a:solidFill>
                <a:latin typeface="Calibri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803160" y="1900080"/>
            <a:ext cx="7532640" cy="235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TWS PacWave15 Exercise Co-Chair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Jo Guar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inistry of Civil Defence and Emergency Manage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jo.guard@dia.govt.nz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r. Laura Ko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ternational Tsunami Information Cen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aura.kong@noaa.gov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Slide Number Placeholder 3"/>
          <p:cNvSpPr/>
          <p:nvPr/>
        </p:nvSpPr>
        <p:spPr>
          <a:xfrm>
            <a:off x="7012080" y="651816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D79274C-0F5B-4D12-8209-1CDCAA270AB0}" type="slidenum">
              <a:rPr b="0" lang="en-US" sz="8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8" descr="UNESCO-IOC_logo"/>
          <p:cNvPicPr/>
          <p:nvPr/>
        </p:nvPicPr>
        <p:blipFill>
          <a:blip r:embed="rId1"/>
          <a:srcRect l="0" t="0" r="0" b="39757"/>
          <a:stretch/>
        </p:blipFill>
        <p:spPr>
          <a:xfrm>
            <a:off x="6058080" y="4719600"/>
            <a:ext cx="2277720" cy="13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  <a:ea typeface="Arial"/>
              </a:rPr>
              <a:t>PacWave15 – Date and Purpose </a:t>
            </a:r>
            <a:endParaRPr b="0" lang="en-US" sz="3200" spc="-1" strike="noStrike">
              <a:solidFill>
                <a:srgbClr val="000066"/>
              </a:solidFill>
              <a:latin typeface="Eras Bold ITC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2160" y="1270080"/>
            <a:ext cx="8116920" cy="525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lnSpc>
                <a:spcPct val="110000"/>
              </a:lnSpc>
              <a:spcBef>
                <a:spcPts val="1199"/>
              </a:spcBef>
              <a:spcAft>
                <a:spcPts val="1800"/>
              </a:spcAft>
              <a:buClr>
                <a:srgbClr val="ff0000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  <a:ea typeface="Arial"/>
              </a:rPr>
              <a:t>Exercise Web Site:   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  <a:ea typeface="Arial"/>
              </a:rPr>
              <a:t>http://www.pacwave.info</a:t>
            </a: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  <a:p>
            <a:pPr marL="357120" indent="-357120">
              <a:lnSpc>
                <a:spcPct val="110000"/>
              </a:lnSpc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  <a:ea typeface="Arial"/>
              </a:rPr>
              <a:t>IOC Circular Letter 2548 issued 4 Nov 2014</a:t>
            </a: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9160" indent="-401400">
              <a:lnSpc>
                <a:spcPct val="110000"/>
              </a:lnSpc>
              <a:spcBef>
                <a:spcPts val="1199"/>
              </a:spcBef>
              <a:buClr>
                <a:srgbClr val="0000ff"/>
              </a:buClr>
              <a:buFont typeface="Arial"/>
              <a:buChar char="–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Arial"/>
                <a:ea typeface="Arial"/>
              </a:rPr>
              <a:t>2-6 February 2015:                                        PTWS Exercise Pacific Wave “PacWave 15”  </a:t>
            </a:r>
            <a:r>
              <a:rPr b="0" lang="en-US" sz="2600" spc="-1" strike="noStrike">
                <a:solidFill>
                  <a:srgbClr val="000066"/>
                </a:solidFill>
                <a:latin typeface="Arial"/>
                <a:ea typeface="Arial"/>
              </a:rPr>
              <a:t>  </a:t>
            </a:r>
            <a:endParaRPr b="0" lang="en-US" sz="2600" spc="-1" strike="noStrike">
              <a:solidFill>
                <a:srgbClr val="000066"/>
              </a:solidFill>
              <a:latin typeface="Arial Unicode MS"/>
            </a:endParaRPr>
          </a:p>
          <a:p>
            <a:pPr marL="357120" indent="-357120">
              <a:lnSpc>
                <a:spcPct val="110000"/>
              </a:lnSpc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  <a:ea typeface="Arial"/>
              </a:rPr>
              <a:t>Exercise Purpose:                                                   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  <a:ea typeface="Arial"/>
              </a:rPr>
              <a:t>The aim of PacWave15 is to test the new Operational PTWS PTWC Enhanced Products</a:t>
            </a: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  <a:p>
            <a:pPr marL="357120" indent="-357120">
              <a:lnSpc>
                <a:spcPct val="110000"/>
              </a:lnSpc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  <a:p>
            <a:pPr marL="357120" indent="-357120">
              <a:lnSpc>
                <a:spcPct val="110000"/>
              </a:lnSpc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560" y="-1260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  <a:ea typeface="Arial"/>
              </a:rPr>
              <a:t>PacWave15 – Objectives </a:t>
            </a:r>
            <a:endParaRPr b="0" lang="en-US" sz="3200" spc="-1" strike="noStrike">
              <a:solidFill>
                <a:srgbClr val="000066"/>
              </a:solidFill>
              <a:latin typeface="Eras Bold ITC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04920" y="1095120"/>
            <a:ext cx="8143920" cy="5427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lnSpc>
                <a:spcPct val="100000"/>
              </a:lnSpc>
              <a:spcAft>
                <a:spcPts val="2401"/>
              </a:spcAft>
              <a:buClr>
                <a:srgbClr val="0000ff"/>
              </a:buClr>
              <a:buFont typeface="Arial"/>
              <a:buAutoNum type="arabicPeriod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Arial"/>
                <a:ea typeface="Arial"/>
              </a:rPr>
              <a:t>Test communications from the PTWS Tsunami Service Providers to Countries.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514440" indent="-514440">
              <a:lnSpc>
                <a:spcPct val="100000"/>
              </a:lnSpc>
              <a:spcAft>
                <a:spcPts val="2401"/>
              </a:spcAft>
              <a:buClr>
                <a:srgbClr val="0000ff"/>
              </a:buClr>
              <a:buFont typeface="Arial"/>
              <a:buAutoNum type="arabicPeriod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Arial"/>
                <a:ea typeface="Arial"/>
              </a:rPr>
              <a:t>Test whether the PTWS PTWC Tsunami Service Provider products are interpreted by countries accurately and in a timely manner.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514440" indent="-514440">
              <a:lnSpc>
                <a:spcPct val="100000"/>
              </a:lnSpc>
              <a:spcAft>
                <a:spcPts val="2401"/>
              </a:spcAft>
              <a:buClr>
                <a:srgbClr val="0000ff"/>
              </a:buClr>
              <a:buFont typeface="Arial"/>
              <a:buAutoNum type="arabicPeriod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Arial"/>
                <a:ea typeface="Arial"/>
              </a:rPr>
              <a:t>Test national and regional cooperation.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514440" indent="-514440">
              <a:lnSpc>
                <a:spcPct val="100000"/>
              </a:lnSpc>
              <a:spcBef>
                <a:spcPts val="1225"/>
              </a:spcBef>
              <a:buClr>
                <a:srgbClr val="0000ff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acWave15 – 6 Scenarios</a:t>
            </a:r>
            <a:endParaRPr b="0" lang="en-US" sz="3200" spc="-1" strike="noStrike">
              <a:solidFill>
                <a:srgbClr val="000066"/>
              </a:solidFill>
              <a:latin typeface="Eras Bold ITC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560160" y="1216080"/>
            <a:ext cx="7993080" cy="350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310680" indent="-310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Nansei-Shoto Trench, Ryukyu Islands (PacWave11)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10680" indent="-310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Tonga Trench (PacWave11)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10680" indent="-310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Colombia-Ecuador Trench (PacWave11)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10680" indent="-310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Northern Japan Trench (PacWave13)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10680" indent="-310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Manila Trench (PacWave13)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10680" indent="-310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Peru-Chile Trench (PacWave15)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1" marL="238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66"/>
              </a:solidFill>
              <a:latin typeface="Arial Unicode MS"/>
            </a:endParaRPr>
          </a:p>
          <a:p>
            <a:pPr lvl="1" marL="2386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–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800" spc="-1" strike="noStrike">
              <a:solidFill>
                <a:srgbClr val="000066"/>
              </a:solidFill>
              <a:latin typeface="Arial Unicode MS"/>
            </a:endParaRPr>
          </a:p>
          <a:p>
            <a:pPr lvl="1" marL="238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800" spc="-1" strike="noStrike">
              <a:solidFill>
                <a:srgbClr val="000066"/>
              </a:solidFill>
              <a:latin typeface="Arial Unicode MS"/>
            </a:endParaRPr>
          </a:p>
        </p:txBody>
      </p:sp>
      <p:pic>
        <p:nvPicPr>
          <p:cNvPr id="180" name="Picture 2" descr="Off_NorthernJapan_ttt_2m_zoom_lowres.jpg"/>
          <p:cNvPicPr/>
          <p:nvPr/>
        </p:nvPicPr>
        <p:blipFill>
          <a:blip r:embed="rId1"/>
          <a:stretch/>
        </p:blipFill>
        <p:spPr>
          <a:xfrm>
            <a:off x="4552920" y="5415120"/>
            <a:ext cx="1201680" cy="125064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4" descr="Off_WesternPhilippines_ttt_2m_zoom_lowres.jpg"/>
          <p:cNvPicPr/>
          <p:nvPr/>
        </p:nvPicPr>
        <p:blipFill>
          <a:blip r:embed="rId2"/>
          <a:stretch/>
        </p:blipFill>
        <p:spPr>
          <a:xfrm>
            <a:off x="5754600" y="5415120"/>
            <a:ext cx="1500120" cy="125064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" descr="ryukyu_ttt_ptsrc_2m.jpg"/>
          <p:cNvPicPr/>
          <p:nvPr/>
        </p:nvPicPr>
        <p:blipFill>
          <a:blip r:embed="rId3"/>
          <a:stretch/>
        </p:blipFill>
        <p:spPr>
          <a:xfrm>
            <a:off x="304920" y="5076720"/>
            <a:ext cx="1279440" cy="158904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2" descr="tongatr_ttt_ptsrc_2m.jpg"/>
          <p:cNvPicPr/>
          <p:nvPr/>
        </p:nvPicPr>
        <p:blipFill>
          <a:blip r:embed="rId4"/>
          <a:stretch/>
        </p:blipFill>
        <p:spPr>
          <a:xfrm>
            <a:off x="1609560" y="5415120"/>
            <a:ext cx="1405080" cy="12506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3" descr="colombiaecuador_ttt_ptsrc_2m.jpg"/>
          <p:cNvPicPr/>
          <p:nvPr/>
        </p:nvPicPr>
        <p:blipFill>
          <a:blip r:embed="rId5"/>
          <a:stretch/>
        </p:blipFill>
        <p:spPr>
          <a:xfrm>
            <a:off x="3014640" y="5415120"/>
            <a:ext cx="1538280" cy="125064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4" descr="peru-chile_ttt_ptsrc_2m.png.png"/>
          <p:cNvPicPr/>
          <p:nvPr/>
        </p:nvPicPr>
        <p:blipFill>
          <a:blip r:embed="rId6"/>
          <a:stretch/>
        </p:blipFill>
        <p:spPr>
          <a:xfrm>
            <a:off x="7254720" y="5321160"/>
            <a:ext cx="1573200" cy="13446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28600" y="136440"/>
            <a:ext cx="9354960" cy="6098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  <a:ea typeface="Arial"/>
              </a:rPr>
              <a:t>PacWave15 – Conduct</a:t>
            </a:r>
            <a:endParaRPr b="0" lang="en-US" sz="3200" spc="-1" strike="noStrike">
              <a:solidFill>
                <a:srgbClr val="000066"/>
              </a:solidFill>
              <a:latin typeface="Eras Bold IT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228600" y="945720"/>
            <a:ext cx="8540640" cy="57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Exercise Date:  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773280" indent="-298440">
              <a:lnSpc>
                <a:spcPct val="100000"/>
              </a:lnSpc>
              <a:spcBef>
                <a:spcPts val="300"/>
              </a:spcBef>
              <a:buClr>
                <a:srgbClr val="0000ff"/>
              </a:buClr>
              <a:buFont typeface="Arial"/>
              <a:buChar char="–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Events live, but may conduct at different date / time</a:t>
            </a:r>
            <a:endParaRPr b="0" lang="en-US" sz="2400" spc="-1" strike="noStrike">
              <a:solidFill>
                <a:srgbClr val="000066"/>
              </a:solidFill>
              <a:latin typeface="Arial Unicode MS"/>
            </a:endParaRPr>
          </a:p>
          <a:p>
            <a:pPr lvl="1" marL="773280" indent="-298440">
              <a:lnSpc>
                <a:spcPct val="100000"/>
              </a:lnSpc>
              <a:spcBef>
                <a:spcPts val="300"/>
              </a:spcBef>
              <a:buClr>
                <a:srgbClr val="0000ff"/>
              </a:buClr>
              <a:buFont typeface="Arial"/>
              <a:buChar char="–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3 February:  Peru-Chile, Colombia-Ecuador, Tonga</a:t>
            </a:r>
            <a:endParaRPr b="0" lang="en-US" sz="2400" spc="-1" strike="noStrike">
              <a:solidFill>
                <a:srgbClr val="000066"/>
              </a:solidFill>
              <a:latin typeface="Arial Unicode MS"/>
            </a:endParaRPr>
          </a:p>
          <a:p>
            <a:pPr lvl="1" marL="773280" indent="-298440">
              <a:lnSpc>
                <a:spcPct val="100000"/>
              </a:lnSpc>
              <a:spcBef>
                <a:spcPts val="300"/>
              </a:spcBef>
              <a:buClr>
                <a:srgbClr val="0000ff"/>
              </a:buClr>
              <a:buFont typeface="Arial"/>
              <a:buChar char="–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4 February:  Japan, Nansei-Shoto, Manila</a:t>
            </a:r>
            <a:endParaRPr b="0" lang="en-US" sz="2400" spc="-1" strike="noStrike">
              <a:solidFill>
                <a:srgbClr val="000066"/>
              </a:solidFill>
              <a:latin typeface="Arial Unicode MS"/>
            </a:endParaRPr>
          </a:p>
          <a:p>
            <a:pPr marL="357120" indent="-35712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Exercise Type and Participants – Recommend: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773280" indent="-29844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Tabletop Exercise</a:t>
            </a:r>
            <a:endParaRPr b="0" lang="en-US" sz="2400" spc="-1" strike="noStrike">
              <a:solidFill>
                <a:srgbClr val="000066"/>
              </a:solidFill>
              <a:latin typeface="Arial Unicode MS"/>
            </a:endParaRPr>
          </a:p>
          <a:p>
            <a:pPr lvl="1" marL="773280" indent="-29844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Minimum participation should be</a:t>
            </a:r>
            <a:endParaRPr b="0" lang="en-US" sz="2400" spc="-1" strike="noStrike">
              <a:solidFill>
                <a:srgbClr val="000066"/>
              </a:solidFill>
              <a:latin typeface="Arial Unicode MS"/>
            </a:endParaRPr>
          </a:p>
          <a:p>
            <a:pPr lvl="2" marL="1179360" indent="-347400">
              <a:lnSpc>
                <a:spcPct val="100000"/>
              </a:lnSpc>
              <a:spcBef>
                <a:spcPts val="400"/>
              </a:spcBef>
              <a:buClr>
                <a:srgbClr val="0000ff"/>
              </a:buClr>
              <a:buFont typeface="Arial"/>
              <a:buChar char="•"/>
              <a:tabLst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National Tsunami Warning Center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79360" indent="-347400">
              <a:lnSpc>
                <a:spcPct val="100000"/>
              </a:lnSpc>
              <a:spcBef>
                <a:spcPts val="400"/>
              </a:spcBef>
              <a:buClr>
                <a:srgbClr val="0000ff"/>
              </a:buClr>
              <a:buFont typeface="Arial"/>
              <a:buChar char="•"/>
              <a:tabLst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National Disaster Management Office 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57120" indent="-35712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Each Country should exercise 1 Tsunami Scenario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57120" indent="-35712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International TWC Messages (on web site)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773280" indent="-298440">
              <a:lnSpc>
                <a:spcPct val="100000"/>
              </a:lnSpc>
              <a:spcBef>
                <a:spcPts val="400"/>
              </a:spcBef>
              <a:buClr>
                <a:srgbClr val="0000ff"/>
              </a:buClr>
              <a:buFont typeface="Arial"/>
              <a:buChar char="–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PTWC (new), JMA NWPTAC (existing)</a:t>
            </a:r>
            <a:endParaRPr b="0" lang="en-US" sz="2400" spc="-1" strike="noStrike">
              <a:solidFill>
                <a:srgbClr val="000066"/>
              </a:solidFill>
              <a:latin typeface="Arial Unicode MS"/>
            </a:endParaRPr>
          </a:p>
          <a:p>
            <a:pPr lvl="1" marL="773280" indent="-298440">
              <a:lnSpc>
                <a:spcPct val="100000"/>
              </a:lnSpc>
              <a:spcBef>
                <a:spcPts val="400"/>
              </a:spcBef>
              <a:buClr>
                <a:srgbClr val="0000ff"/>
              </a:buClr>
              <a:buFont typeface="Arial"/>
              <a:buChar char="–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Live ‘Dummy Text’ messages</a:t>
            </a:r>
            <a:endParaRPr b="0" lang="en-US" sz="2400" spc="-1" strike="noStrike">
              <a:solidFill>
                <a:srgbClr val="000066"/>
              </a:solidFill>
              <a:latin typeface="Arial Unicode MS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Box 4"/>
          <p:cNvSpPr/>
          <p:nvPr/>
        </p:nvSpPr>
        <p:spPr>
          <a:xfrm>
            <a:off x="304920" y="1087560"/>
            <a:ext cx="8458200" cy="57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365040" indent="-3650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ase threat on wave forecast models, not on pre-determined magnitude threshol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65040" indent="-3650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orecasts constrained by EQ mechanism (W-CMT) and sea level reading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65040" indent="-365040">
              <a:lnSpc>
                <a:spcPct val="100000"/>
              </a:lnSpc>
              <a:spcBef>
                <a:spcPts val="11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ublic Text Msg continues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–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MS PGothic"/>
              </a:rPr>
              <a:t>Summary Inform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65040" indent="-365040">
              <a:lnSpc>
                <a:spcPct val="100000"/>
              </a:lnSpc>
              <a:spcBef>
                <a:spcPts val="11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Graphical forecasts and Statistics table only to Country Tsunami Warning Focal Points (TWF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0080" indent="-3650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Coastal Tsunami Amplitude Forecast Polygon Map - Overvie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30080" indent="-3650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Deep-Ocean Tsunami Amplitude Forecast Map – Pacific-w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30080" indent="-3650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Coastal Tsunami Amplitude Forecast Map –                                         Pacific-wide and Regional, with Tsunami Travel Tim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30080" indent="-3650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Coastal Tsunami Amplitude Forecast KMZ– input to Google Eart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30080" indent="-3650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able of Forecast Statistics for Regional Polyg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30080" indent="-3650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65040" indent="-3650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Rectangle 1"/>
          <p:cNvSpPr/>
          <p:nvPr/>
        </p:nvSpPr>
        <p:spPr>
          <a:xfrm>
            <a:off x="264600" y="152280"/>
            <a:ext cx="66286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b90000"/>
                </a:solidFill>
                <a:latin typeface="Arial"/>
                <a:ea typeface="Arial"/>
              </a:rPr>
              <a:t>PTWC New Enhanced Products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0" name="Group 4"/>
          <p:cNvGrpSpPr/>
          <p:nvPr/>
        </p:nvGrpSpPr>
        <p:grpSpPr>
          <a:xfrm>
            <a:off x="533520" y="6019920"/>
            <a:ext cx="8420040" cy="1409760"/>
            <a:chOff x="533520" y="6019920"/>
            <a:chExt cx="8420040" cy="1409760"/>
          </a:xfrm>
        </p:grpSpPr>
        <p:pic>
          <p:nvPicPr>
            <p:cNvPr id="191" name="Picture 9" descr=""/>
            <p:cNvPicPr/>
            <p:nvPr/>
          </p:nvPicPr>
          <p:blipFill>
            <a:blip r:embed="rId1"/>
            <a:stretch/>
          </p:blipFill>
          <p:spPr>
            <a:xfrm>
              <a:off x="2149200" y="6019920"/>
              <a:ext cx="1357920" cy="89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2" name="Picture 10" descr=""/>
            <p:cNvPicPr/>
            <p:nvPr/>
          </p:nvPicPr>
          <p:blipFill>
            <a:blip r:embed="rId2"/>
            <a:stretch/>
          </p:blipFill>
          <p:spPr>
            <a:xfrm>
              <a:off x="3578400" y="6019920"/>
              <a:ext cx="1356480" cy="89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3" name="Picture 7" descr=""/>
            <p:cNvPicPr/>
            <p:nvPr/>
          </p:nvPicPr>
          <p:blipFill>
            <a:blip r:embed="rId3"/>
            <a:stretch/>
          </p:blipFill>
          <p:spPr>
            <a:xfrm>
              <a:off x="533520" y="6061680"/>
              <a:ext cx="1527480" cy="82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" name="Picture 5" descr="Screen Shot 2013-05-02 at 11.33.42 PM.png"/>
            <p:cNvPicPr/>
            <p:nvPr/>
          </p:nvPicPr>
          <p:blipFill>
            <a:blip r:embed="rId4"/>
            <a:stretch/>
          </p:blipFill>
          <p:spPr>
            <a:xfrm>
              <a:off x="5069880" y="6019920"/>
              <a:ext cx="3883680" cy="1409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5" name="Picture 2" descr=""/>
            <p:cNvPicPr/>
            <p:nvPr/>
          </p:nvPicPr>
          <p:blipFill>
            <a:blip r:embed="rId5"/>
            <a:stretch/>
          </p:blipFill>
          <p:spPr>
            <a:xfrm>
              <a:off x="6188400" y="6525000"/>
              <a:ext cx="1175400" cy="469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6" name="Picture 1" descr="Screen Shot 2014-08-04 at 9.24.27 AM.png"/>
            <p:cNvPicPr/>
            <p:nvPr/>
          </p:nvPicPr>
          <p:blipFill>
            <a:blip r:embed="rId6"/>
            <a:stretch/>
          </p:blipFill>
          <p:spPr>
            <a:xfrm>
              <a:off x="5069880" y="6525000"/>
              <a:ext cx="1056240" cy="4716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97" name="Picture 3" descr="NOAAlogoclr-[Converted].jpg"/>
          <p:cNvPicPr/>
          <p:nvPr/>
        </p:nvPicPr>
        <p:blipFill>
          <a:blip r:embed="rId7"/>
          <a:stretch/>
        </p:blipFill>
        <p:spPr>
          <a:xfrm>
            <a:off x="8229600" y="5943600"/>
            <a:ext cx="671400" cy="69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TextBox 4"/>
          <p:cNvSpPr/>
          <p:nvPr/>
        </p:nvSpPr>
        <p:spPr>
          <a:xfrm>
            <a:off x="533520" y="1295280"/>
            <a:ext cx="8001000" cy="46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365040" indent="-365040">
              <a:lnSpc>
                <a:spcPct val="100000"/>
              </a:lnSpc>
              <a:spcBef>
                <a:spcPts val="400"/>
              </a:spcBef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o Warning / Watch Alert Leve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65040" indent="-365040">
              <a:lnSpc>
                <a:spcPct val="100000"/>
              </a:lnSpc>
              <a:spcBef>
                <a:spcPts val="400"/>
              </a:spcBef>
              <a:spcAft>
                <a:spcPts val="1800"/>
              </a:spcAft>
              <a:buClr>
                <a:srgbClr val="0000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Instead, issue Threat Levels:                         4 categorie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ased forecast maximum coastal tsunami wave amplitud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096920" indent="-36504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 0.3m (no Threat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1096920" indent="-36504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0.3 to &lt; 1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1096920" indent="-36504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 to 3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1096920" indent="-36504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gt; 3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1096920" indent="-36504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ther:  Forecast not yet comput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Rectangle 1"/>
          <p:cNvSpPr/>
          <p:nvPr/>
        </p:nvSpPr>
        <p:spPr>
          <a:xfrm>
            <a:off x="533520" y="2286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400" spc="-1" strike="noStrike">
                <a:solidFill>
                  <a:srgbClr val="b90000"/>
                </a:solidFill>
                <a:latin typeface="Calibri"/>
                <a:ea typeface="Arial"/>
              </a:rPr>
              <a:t>PTWC New Enhanced Products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0" name="Picture 3" descr="NOAAlogoclr-[Converted].jpg"/>
          <p:cNvPicPr/>
          <p:nvPr/>
        </p:nvPicPr>
        <p:blipFill>
          <a:blip r:embed="rId1"/>
          <a:stretch/>
        </p:blipFill>
        <p:spPr>
          <a:xfrm>
            <a:off x="8229600" y="5943600"/>
            <a:ext cx="671400" cy="69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381880" cy="6098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ctr">
            <a:noAutofit/>
          </a:bodyPr>
          <a:p>
            <a:pPr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Eras Bold ITC"/>
              </a:rPr>
              <a:t>PacWave15 - Documents</a:t>
            </a:r>
            <a:endParaRPr b="0" lang="en-US" sz="3200" spc="-1" strike="noStrike">
              <a:solidFill>
                <a:srgbClr val="000066"/>
              </a:solidFill>
              <a:latin typeface="Eras Bold ITC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304560" y="1188720"/>
            <a:ext cx="8545320" cy="546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7760" indent="-34776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Available at PacWave15 web site (www.pacwave.info):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763560" indent="-34776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Exercise Messages (PTWC, JMA/NWPTAC)</a:t>
            </a:r>
            <a:endParaRPr b="0" lang="en-US" sz="2400" spc="-1" strike="noStrike">
              <a:solidFill>
                <a:srgbClr val="000066"/>
              </a:solidFill>
              <a:latin typeface="Arial Unicode MS"/>
            </a:endParaRPr>
          </a:p>
          <a:p>
            <a:pPr lvl="1" marL="763560" indent="-34776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PacWave Exercise Manual (IOC TS 117, 2015)</a:t>
            </a:r>
            <a:endParaRPr b="0" lang="en-US" sz="2400" spc="-1" strike="noStrike">
              <a:solidFill>
                <a:srgbClr val="000066"/>
              </a:solidFill>
              <a:latin typeface="Arial Unicode MS"/>
            </a:endParaRPr>
          </a:p>
          <a:p>
            <a:pPr lvl="1" marL="763560" indent="-34776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User’s Guide to PTWC Enhanced Products for the PTWS (IOC TS 105, revised, 2014)</a:t>
            </a:r>
            <a:endParaRPr b="0" lang="en-US" sz="2400" spc="-1" strike="noStrike">
              <a:solidFill>
                <a:srgbClr val="000066"/>
              </a:solidFill>
              <a:latin typeface="Arial Unicode MS"/>
            </a:endParaRPr>
          </a:p>
          <a:p>
            <a:pPr lvl="1" marL="763560" indent="-34776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PacWave15 Summary (this ppt)</a:t>
            </a:r>
            <a:endParaRPr b="0" lang="en-US" sz="2400" spc="-1" strike="noStrike">
              <a:solidFill>
                <a:srgbClr val="000066"/>
              </a:solidFill>
              <a:latin typeface="Arial Unicode MS"/>
            </a:endParaRPr>
          </a:p>
          <a:p>
            <a:pPr lvl="1" marL="763560" indent="-34776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How to Plan, Conduct, and                                 Evaluate IOC Tsunami Wave                          Exercises (IOC M&amp;G 58 2013)</a:t>
            </a:r>
            <a:endParaRPr b="0" lang="en-US" sz="2400" spc="-1" strike="noStrike">
              <a:solidFill>
                <a:srgbClr val="000066"/>
              </a:solidFill>
              <a:latin typeface="Arial Unicode MS"/>
            </a:endParaRPr>
          </a:p>
          <a:p>
            <a:pPr lvl="1" marL="763560" indent="-34776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PacWave15 Announcement                                           (IOC CL 2548, 4 November 2014)</a:t>
            </a:r>
            <a:endParaRPr b="0" lang="en-US" sz="2400" spc="-1" strike="noStrike">
              <a:solidFill>
                <a:srgbClr val="000066"/>
              </a:solidFill>
              <a:latin typeface="Arial Unicode MS"/>
            </a:endParaRPr>
          </a:p>
          <a:p>
            <a:pPr lvl="1" marL="763560" indent="-34776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400" spc="-1" strike="noStrike">
              <a:solidFill>
                <a:srgbClr val="000066"/>
              </a:solidFill>
              <a:latin typeface="Arial Unicode MS"/>
            </a:endParaRPr>
          </a:p>
          <a:p>
            <a:pPr lvl="1" marL="763560" indent="-34776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400" spc="-1" strike="noStrike">
              <a:solidFill>
                <a:srgbClr val="000066"/>
              </a:solidFill>
              <a:latin typeface="Arial Unicode MS"/>
            </a:endParaRPr>
          </a:p>
        </p:txBody>
      </p:sp>
      <p:pic>
        <p:nvPicPr>
          <p:cNvPr id="203" name="Picture 1" descr="Screen Shot 2015-02-01 at 7.36.09 PM.png"/>
          <p:cNvPicPr/>
          <p:nvPr/>
        </p:nvPicPr>
        <p:blipFill>
          <a:blip r:embed="rId1"/>
          <a:stretch/>
        </p:blipFill>
        <p:spPr>
          <a:xfrm>
            <a:off x="6429240" y="3279600"/>
            <a:ext cx="1576440" cy="2232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204" name="Picture 2" descr="Screen Shot 2015-02-01 at 7.37.26 PM.png"/>
          <p:cNvPicPr/>
          <p:nvPr/>
        </p:nvPicPr>
        <p:blipFill>
          <a:blip r:embed="rId2"/>
          <a:stretch/>
        </p:blipFill>
        <p:spPr>
          <a:xfrm>
            <a:off x="7272360" y="4622760"/>
            <a:ext cx="1468440" cy="2035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381880" cy="6098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  <a:ea typeface="Arial"/>
              </a:rPr>
              <a:t>Conduct – Evaluation</a:t>
            </a:r>
            <a:endParaRPr b="0" lang="en-US" sz="3200" spc="-1" strike="noStrike">
              <a:solidFill>
                <a:srgbClr val="000066"/>
              </a:solidFill>
              <a:latin typeface="Eras Bold ITC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04560" y="1163520"/>
            <a:ext cx="8638920" cy="5440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46320" indent="-34632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Post-Exercise Evaluation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9880" indent="-28944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ue 21 February 2015.</a:t>
            </a:r>
            <a:endParaRPr b="0" lang="en-US" sz="2800" spc="-1" strike="noStrike">
              <a:solidFill>
                <a:srgbClr val="000066"/>
              </a:solidFill>
              <a:latin typeface="Arial Unicode MS"/>
            </a:endParaRPr>
          </a:p>
          <a:p>
            <a:pPr lvl="1" marL="749880" indent="-28944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port available for ICG/PTWS-XXVI,          22-24 April 2015</a:t>
            </a:r>
            <a:endParaRPr b="0" lang="en-US" sz="2800" spc="-1" strike="noStrike">
              <a:solidFill>
                <a:srgbClr val="000066"/>
              </a:solidFill>
              <a:latin typeface="Arial Unicode MS"/>
            </a:endParaRPr>
          </a:p>
          <a:p>
            <a:pPr lvl="1" marL="749880" indent="-2894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nline:                                                                </a:t>
            </a:r>
            <a:r>
              <a:rPr b="1" lang="en-US" sz="2400" spc="-1" strike="noStrike">
                <a:solidFill>
                  <a:srgbClr val="0000ff"/>
                </a:solidFill>
                <a:latin typeface="Arial Unicode MS"/>
              </a:rPr>
              <a:t>https://www.surveymonkey.com/s/pacwave15_eval </a:t>
            </a:r>
            <a:endParaRPr b="0" lang="en-US" sz="2400" spc="-1" strike="noStrike">
              <a:solidFill>
                <a:srgbClr val="000066"/>
              </a:solidFill>
              <a:latin typeface="Arial Unicode MS"/>
            </a:endParaRPr>
          </a:p>
          <a:p>
            <a:pPr marL="346320" indent="-34632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9880" indent="-28944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800" spc="-1" strike="noStrike">
              <a:solidFill>
                <a:srgbClr val="000066"/>
              </a:solidFill>
              <a:latin typeface="Arial Unicode MS"/>
            </a:endParaRPr>
          </a:p>
          <a:p>
            <a:pPr lvl="1" marL="749880" indent="-28944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endParaRPr b="0" lang="en-US" sz="2800" spc="-1" strike="noStrike">
              <a:solidFill>
                <a:srgbClr val="000066"/>
              </a:solidFill>
              <a:latin typeface="Arial Unicode MS"/>
            </a:endParaRPr>
          </a:p>
          <a:p>
            <a:pPr lvl="1" marL="749880" indent="-28944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endParaRPr b="0" lang="en-US" sz="2800" spc="-1" strike="noStrike">
              <a:solidFill>
                <a:srgbClr val="000066"/>
              </a:solidFill>
              <a:latin typeface="Arial Unicode MS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7T08:07:59Z</dcterms:created>
  <dc:creator>TC</dc:creator>
  <dc:description/>
  <cp:keywords/>
  <dc:language>en-US</dc:language>
  <cp:lastModifiedBy>Laura Kong</cp:lastModifiedBy>
  <cp:lastPrinted>2015-02-02T06:00:14Z</cp:lastPrinted>
  <dcterms:modified xsi:type="dcterms:W3CDTF">2015-02-02T07:06:06Z</dcterms:modified>
  <cp:revision>126</cp:revision>
  <dc:subject/>
  <dc:title>Exercise Pacific Wave Past, Present, Future</dc:title>
</cp:coreProperties>
</file>