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19.wmf" ContentType="image/x-wmf"/>
  <Override PartName="/ppt/media/image2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8.wmf" ContentType="image/x-wmf"/>
  <Override PartName="/ppt/media/image5.jpeg" ContentType="image/jpe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dt" idx="4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2E09-E42E-4CEC-B5FA-F0F69928A6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 type="ftr" idx="4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6"/>
          <p:cNvSpPr>
            <a:spLocks noGrp="1"/>
          </p:cNvSpPr>
          <p:nvPr>
            <p:ph type="sldNum" idx="4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17EA-5A32-4B74-820A-344657CFD6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5B72-598D-43E1-8459-E3A376FC3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3044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ase see Appendices VII for more explan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rs Guide for the Pacific Tsunami Warning Center Enhanced Products for the Pacific Tsunami Warning System. IOC Technical Series No 105, Revised edition. UNESCO/IOC, 2014 (English; Spanis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ailable for download at http://ptws-ptwcnewproducts.inf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6299-BCEA-4D2D-B64F-CCFF3F6C53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from Marshall Is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C803-D81E-4C02-9170-F5D3EEB233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from Yap State, Micronesia for Local Tsunami, with delegated authority to issue Warning and Evacuation due to urgency of al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FEC0-E6DC-4664-A13E-EB4298FC1C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of Marshall Islands – draft example on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747D-F373-48F8-87E0-F4524959E7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explan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D572CB7-8641-408D-A14E-1D4C0AFEB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explan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62EFE7D-9E73-4722-B1BD-5124EE47F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E27B-4F01-4913-AA25-7C359F3C8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3044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ase see Appendices VI, VII, VIII for more explan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rs Guide for the Pacific Tsunami Warning Center Enhanced Products for the Pacific Tsunami Warning System. IOC Technical Series No 105, Revised edition. UNESCO/IOC, 2014 (English; Spanis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ailable for download at http://ptws-ptwcnewproducts.inf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E46E-45F1-4326-9C64-7766F5BAFC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explan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4EFCC62-B860-4158-8570-EFD6CBC4D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ase see Appendices VI, VII, VIII for more explan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rs Guide for the Pacific Tsunami Warning Center Enhanced Products for the Pacific Tsunami Warning System. IOC Technical Series No 105, Revised edition. UNESCO/IOC, 2014 (English; Spanis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ailable for download at http://ptws-ptwcnewproducts.inf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3FF1-9CB5-400F-A414-EEB2FE2431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ase see Appendices VI for more explan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rs Guide for the Pacific Tsunami Warning Center Enhanced Products for the Pacific Tsunami Warning System. IOC Technical Series No 105, Revised edition. UNESCO/IOC, 2014 (English; Spanis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ailable for download at http://ptws-ptwcnewproducts.inf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B397-F177-4BDC-BF58-8799DE1E91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ase see Appendices VI for more explan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rs Guide for the Pacific Tsunami Warning Center Enhanced Products for the Pacific Tsunami Warning System. IOC Technical Series No 105, Revised edition. UNESCO/IOC, 2014 (English; Spanis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ailable for download at http://ptws-ptwcnewproducts.inf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3EA4-6E55-4FEF-9B7A-0C7FDA3020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ase see Appendices VI for more explan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rs Guide for the Pacific Tsunami Warning Center Enhanced Products for the Pacific Tsunami Warning System. IOC Technical Series No 105, Revised edition. UNESCO/IOC, 2014 (English; Spanis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ailable for download at http://ptws-ptwcnewproducts.inf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F8FA-F7E3-42E6-B862-799F0D9A90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F056C6-1FB4-424F-B458-D7E07BFD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C45AFB-9BCA-4DA3-86F1-AEB14C76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533160" y="151920"/>
            <a:ext cx="68151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6D81F8-82E0-478F-A006-3667352C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854EF3-74BD-4324-9C3C-964A208D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D6AF41-2863-4DA0-BB8B-087CCFAE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BFF4E0-6F10-4378-9DCA-B4803F3D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17481C-FE52-4B37-9EEA-C972A8B8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BEA607-5771-4D96-B4DA-20B3D22AD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38544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3808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53316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38544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23808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70698B-A1E3-4A59-A6CE-279AC5F50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33160" y="151920"/>
            <a:ext cx="68151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8544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3808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16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8544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3808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38544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23808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3316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38544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23808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1DF43B-3CE9-49E8-B28E-CCE6EE30F4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F482F5-4F43-43EF-9682-AC2CE73F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B1E933-5706-4608-B46C-8454BC32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1EA9A7-4298-4336-82F6-362AC4B4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80554D-A914-4376-9061-D914E014F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533160" y="151920"/>
            <a:ext cx="68151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4BC6E3-AD05-4BAC-B9D1-A3E593029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CAFE6A-ED54-473F-A6AE-E59961BE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C548A9-F3A2-428A-8F8F-9573B08A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EA5460-EFE6-4D2F-8970-DC90AF60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44A552-6DA3-495A-AFBB-D092586B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2B001B-047B-48AE-BB4C-8BD4D63B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38544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23808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53316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38544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23808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8D7192-C683-44B6-9AC7-5134D8A5C3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533160" y="151920"/>
            <a:ext cx="68151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38544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23808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3316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38544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23808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80482C-BA9B-453E-8396-527688BC5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407E1C-8A2E-43BE-B67F-213D1E4D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BCD3D9-042E-4C05-AA82-FF12B794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A44231-8AC0-4E31-B06D-F356F89C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423C1F-D9A8-443A-84CD-2D62F0CB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533160" y="151920"/>
            <a:ext cx="68151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8A23C8-0017-43EE-8802-603F9615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7FC407-0763-4F50-B42B-837F4984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AFC77E-DA7F-4441-9546-9B04C698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D87734-534D-42B7-9FBA-93616D58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32B001-A8FF-45E1-BD8F-356786B6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57B675-D921-4657-9435-501D06559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38544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23808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53316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38544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23808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D3EEA6-A305-4826-A82D-9E0C1564D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37B788-0060-4C43-8523-0D552D3C9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78CF20-25AE-4744-92CF-50BB385D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874C89-1CE8-43C9-82B0-4B08D00B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805EDD-3493-4B09-ACC6-1A9CA341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2FB813-F94F-4600-B254-D4F2905F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533160" y="151920"/>
            <a:ext cx="68151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D32876-D768-4073-A16F-914B33DE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24950E-A42A-4E15-876C-CB5D980D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6746C1-9839-4D6B-972F-269FA7A6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DA3C99-9004-44E5-90E0-706B54B1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0ED967-57D5-42B4-B303-E9A66634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A78D66-57EE-4212-9A42-DA16EFAAD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38544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23808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53316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38544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23808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7D3F8A-5E8F-4CEB-AF33-A2158BDFA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2080CA-2491-4FE5-BD1F-828051FCC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110CEC-BA7F-4C9E-AB83-0D00ABCD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C1052E-9868-4A66-ABA0-F5B6FEFF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FECC04-8DC4-4AE3-9796-23815308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D46220-6485-4182-B6A5-A2F3B7B3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533160" y="151920"/>
            <a:ext cx="68151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E3C24B-BAB4-4263-9CD6-136B8CC3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613EDA-A4E1-4712-AE39-15B0B096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975808-770D-4C70-8E11-5263E8ED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44F4C2-39D1-4622-B216-8246DDA1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5E85BB-3104-422C-B846-A9A3D2CE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4D6020-AA40-4A3D-8D86-137250A70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33160" y="151920"/>
            <a:ext cx="68151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38544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23808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53316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38544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23808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072FB0-53AC-4592-AB51-26590539A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4DD3BF-6CA0-4DB7-A557-EC1F6FF19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EB2207-A2AE-4199-B0F1-CE40282F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FB76D4-39E3-4C4D-9E9B-A0123E12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BF455C-64AC-4F8B-9019-D5D61694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89002F-3F1C-40A7-BD9A-E8684636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533160" y="151920"/>
            <a:ext cx="68151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E054A8-F7E5-4FA1-99CD-8464CF8F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DFA4E2-F05F-4264-B8EA-B45629A9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A719DE-C998-4E4F-A400-D29F9CE8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3CBA14-F2CB-49B0-903F-047E5782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876627-83D6-41B8-ADB0-D75AEB54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181276-D019-423A-8926-5C0FE11A3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38544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23808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53316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38544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23808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284AF4-5857-4B32-8365-27E66A292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C5720A-B40B-4E9F-B54B-A2B347258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95F61F-25B2-4E57-9095-F763FD22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0205FF-6C94-4305-82B5-7A60BC41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080341-DCDE-4FEF-BB5E-6D74551C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982A2E-F431-4217-805C-A5595DA4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533160" y="151920"/>
            <a:ext cx="68151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7C6E81-8329-4514-9E10-FCEDDA37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A635D1-C1D6-4104-8E8D-6A4D57B9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33010B-E67D-47EB-8602-8B635828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F3C774-B4E7-4874-9574-6140A81E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C12573-18EC-4132-A041-BA950028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8D75D7-5EB1-4417-8312-D8D33670E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38544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23808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53316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38544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623808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FE485A-A563-48C1-98D0-FC1AC2B7D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566875-233C-4353-843A-1DD46C129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CF5373-17AC-4D82-A27D-1DF3E63D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23F5CA-B868-4715-851B-C76DE722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2C2E1C-87A3-4FEC-BDB7-08EF4C60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723AC5-A851-4788-8408-164E55C7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533160" y="151920"/>
            <a:ext cx="68151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9E28AD-EED6-44D9-9664-3A8A0F36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41C2EC-472E-4B3D-B015-E2A833C2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A9D0CC-07FE-4E86-9DCE-B72A7F75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EAF6D7-A4E3-45C4-8182-F7DCC8B0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A54582-8E23-486E-8BC2-CD860CC6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4E3A2A-BEAE-4620-8D5E-9CF61D594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38544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23808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53316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338544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623808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E50ACB-AEB7-4B00-BBA1-C86D78B7B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3A4BC24-9334-4DBE-AE3B-3DD522693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FBE2A81-2F41-4984-BE12-AAB3045C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8FD43CF-F22C-455E-90A4-C46F0037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13A24F0-3CCE-4607-8A19-FF4007C2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BEB0319-0109-4520-84C8-C95F8D68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533160" y="151920"/>
            <a:ext cx="68151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CC83DAB-754F-4E35-82BB-6535A253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529CA07-2501-4566-BE58-2FF91D3D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29DE26F-E15D-4D40-B049-BDD37F99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64F0D3D-1410-497E-A33D-B65DB038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080D9B1-3FA9-4691-A8C4-6F7CBC6F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FF94172-4EDB-45CB-9EE1-1D9072CA7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38544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23808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53316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38544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623808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8A6DA1A-5671-4237-B98A-0E9524682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6FCE0A-DF59-41EE-972A-680D81C73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9CA5FE-6E40-4104-9C4C-7595E92C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449DB6-692D-4237-825D-0AF44432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F23BF8-D55A-42C1-A2CF-A3DE2F06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E06877-0DE0-41C0-A567-962DEB23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33160" y="151920"/>
            <a:ext cx="68151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8905B0-C545-4786-9603-F6D8F480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5C7422-7CB3-4325-9064-044762F8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E78524-F1B9-4C55-B6AA-95652663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90300C-92A8-41E4-9E53-3761A240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299B78-081C-4587-AAB6-3ACD32E3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4EFFDF-A5C8-431B-97B7-B18ADF833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8544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808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316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8544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3808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38544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23808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3316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38544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23808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BCA1A3-4C1D-45A9-8B0B-AF87C9006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10ED2CC-6A7D-4414-B8BE-5A3186B0B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44F8D2C-82CC-4078-8BA7-C044F839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C3E2262-46E6-4760-9B6A-91728212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49B5CD2-C1B0-4FA2-9A20-D95E6733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FA23120-C9BE-49CE-9DEA-ADE48B42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ubTitle"/>
          </p:nvPr>
        </p:nvSpPr>
        <p:spPr>
          <a:xfrm>
            <a:off x="533160" y="151920"/>
            <a:ext cx="68151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DD365AD-C5E8-4EA9-B150-3CE06C05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85EA320-2F13-49D0-8C0A-DFF2D4F1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C06AA1A-2B61-4F78-B150-3559E1C0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C793152-4A50-4DA6-A6E1-118C0F53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2F83F0E-2EA2-47EB-8C51-A8F9972B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2888C4E-1CD3-47B5-98E4-9DBC6B61E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338544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623808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53316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6"/>
          <p:cNvSpPr>
            <a:spLocks noGrp="1"/>
          </p:cNvSpPr>
          <p:nvPr>
            <p:ph/>
          </p:nvPr>
        </p:nvSpPr>
        <p:spPr>
          <a:xfrm>
            <a:off x="338544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7"/>
          <p:cNvSpPr>
            <a:spLocks noGrp="1"/>
          </p:cNvSpPr>
          <p:nvPr>
            <p:ph/>
          </p:nvPr>
        </p:nvSpPr>
        <p:spPr>
          <a:xfrm>
            <a:off x="623808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09B7F87-F3FE-4202-BC4D-857296387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E13A7B1-C2B2-49A3-8220-BDC229B50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78D6C2B-DD17-429C-AC75-08981C60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2796E23-A887-428E-A631-6329968C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DEC6F6B-849C-449E-AAD5-EEFE560D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C517781-49CC-44B6-AD82-D641D97A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533160" y="151920"/>
            <a:ext cx="68151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1BB1DDD-2788-4F76-83EE-54133B8A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17D41BD-4C8B-48BA-9B7C-B2CB9415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3A191E8-C21B-41BD-AC4A-1B2344EC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D6AD937-343F-4411-9CCE-6C575FC3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82C49A9-6C10-424F-9084-7BC1C92F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127B88C-63F1-4220-97E1-BB509E94F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38544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23808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53316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38544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23808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AAAB60E-5E15-4A8B-BF6A-8CD9C717D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3253FD9-7B9B-4598-8FBD-E2A63E827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32FD944-64DF-44A0-9007-187B32C7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45846A2-C310-4C66-8779-5F700ADD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F6BD82D-98C3-4E8C-80E2-6A3974ED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13669CD-4062-4E2E-9D75-006AF9BA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33160" y="151920"/>
            <a:ext cx="68151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869F7B5-0D30-459A-AC56-998C6660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DB7A87B-699E-4A7E-8350-47551856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2CBC391-1BC2-4999-91F6-7E88232E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6E48BEF-9F4D-4DC6-AB2D-B0E1292A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DAB8116-E66B-48A7-9F3D-94B19B4A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74F1E43-6E83-4E0F-8992-5938A5B7E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38544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23808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3316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38544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23808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59F4BF2-FF6F-4B06-A6F8-8347D5928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65F9DE6-50A4-451B-83B4-5259DB8FE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02565F2-9C41-4F28-B106-7FBDED57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92FB916-5134-49ED-94B1-425FD6C0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59640AC-5B32-40B3-BE50-85B5B9BE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1EEF890-4CA4-4A6E-A7AB-59B0A967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533160" y="151920"/>
            <a:ext cx="68151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C690352-A2D3-4275-BA7D-68164FAD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2D2A974-9A7F-449C-B387-A4704B6D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178372D-AA02-49A6-B403-A545FFB8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6F36B3E-123D-4BFA-BB5B-AE9894AB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CD3EABF-56DF-4DE7-883B-4D0F6B23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237EF28-7519-4108-B9E5-61E779822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38544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23808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53316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38544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23808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5F043B8-479A-4E60-8616-F6B3405CD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33160" y="151920"/>
            <a:ext cx="68151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8544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3808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3316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8544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23808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533160" y="151920"/>
            <a:ext cx="68151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38544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3808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3316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38544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23808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FA7E-4891-4BDA-AF4A-5EDC5800F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E427-C514-4285-BF58-E744CD88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09E9-31B5-4E80-9AC6-D07CBA6D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92B1-CB4E-49B2-8C39-A370B1CE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7891-00E3-4631-AE2F-A8FCFD8D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533160" y="151920"/>
            <a:ext cx="68151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ACE6-F968-4B7C-897F-EB5A0314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5134-5F53-44AC-A09E-0C321C55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0573-13C8-4AEA-A112-1A04BF92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FC7C-CA48-44C5-A685-5137FA11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D562-6A76-46FB-8B09-C4216811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937E-3845-465B-9E38-E18103A3E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160" y="151920"/>
            <a:ext cx="68151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38544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3808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316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38544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23808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72D6-E305-4563-86C3-193BF8EA6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533160" y="151920"/>
            <a:ext cx="68151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38544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23808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53316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38544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23808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33160" y="151920"/>
            <a:ext cx="68151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38544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23808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3316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38544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23808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15F5F-D223-4771-9908-0D20B6E1DD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440FC-BB29-461C-B70D-F1B1B498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B3FAFB-E0B1-4512-A5DF-D1F80306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F4E72-674E-439A-BA34-F58173AE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15BC94-1A08-4CD5-9038-DA01CC7D9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533160" y="151920"/>
            <a:ext cx="68151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74D94-B6E8-410A-BC5A-982FC13AC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05DF7-C7B7-4145-906E-04532957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80E9A3-1162-4D29-A786-0CE75DEF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10C1E-3D7C-4E2A-83B0-88B5CA96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86ACB5-7926-4D75-86DA-7BD30618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F12A2-08EF-4199-84D8-4E15B5FB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38544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23808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53316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38544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23808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FD0DA-F392-47F6-AD9C-04C27F5AD3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86012C-A281-472C-AFC8-7909B0F2B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ED941A-93C5-4AD7-AA01-CF5B04D8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2EDEAA-BF51-4C3D-BF71-798357D4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0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marL="480960" indent="-48096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936720" indent="-44604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349280" indent="-40320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754280" indent="-39528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170080" indent="-40644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170080" indent="-406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170080" indent="-406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592200" y="9907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3366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AutoShape 4"/>
          <p:cNvSpPr/>
          <p:nvPr/>
        </p:nvSpPr>
        <p:spPr>
          <a:xfrm>
            <a:off x="592200" y="9907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3366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479520" indent="-47952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934920" indent="-44424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347840" indent="-40176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9348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166840" indent="-40464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166840" indent="-4046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166840" indent="-4046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AutoShape 4"/>
          <p:cNvSpPr/>
          <p:nvPr/>
        </p:nvSpPr>
        <p:spPr>
          <a:xfrm>
            <a:off x="592200" y="9907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3366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479520" indent="-47952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934920" indent="-44424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347840" indent="-40176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9348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166840" indent="-40464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166840" indent="-4046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166840" indent="-4046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sldNum" idx="1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6AFE-4912-4F20-B143-736170B24069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8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9" descr=""/>
          <p:cNvPicPr/>
          <p:nvPr/>
        </p:nvPicPr>
        <p:blipFill>
          <a:blip r:embed="rId3"/>
          <a:stretch/>
        </p:blipFill>
        <p:spPr>
          <a:xfrm>
            <a:off x="0" y="1440"/>
            <a:ext cx="3720960" cy="685800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8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9" descr=""/>
          <p:cNvPicPr/>
          <p:nvPr/>
        </p:nvPicPr>
        <p:blipFill>
          <a:blip r:embed="rId3"/>
          <a:stretch/>
        </p:blipFill>
        <p:spPr>
          <a:xfrm rot="5400000">
            <a:off x="3160080" y="-3176280"/>
            <a:ext cx="2819520" cy="917244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11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12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13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C00A-66CF-4BAF-AE7C-5BDFD2A46A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6" descr=""/>
          <p:cNvPicPr/>
          <p:nvPr/>
        </p:nvPicPr>
        <p:blipFill>
          <a:blip r:embed="rId3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7" descr=""/>
          <p:cNvPicPr/>
          <p:nvPr/>
        </p:nvPicPr>
        <p:blipFill>
          <a:blip r:embed="rId4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14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ftr" idx="15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sldNum" idx="16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3BFB-FA0B-4BAD-8903-886B6CAA58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6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17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18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19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CEB4-58B8-4A2E-837E-16B378B6FF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6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20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21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22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3C74-30AB-4BF2-B732-546E4D5ECC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Picture 6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23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24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25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500E-B74B-4768-B48A-D34FEC6417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Picture 6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26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ftr" idx="27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sldNum" idx="28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1853-F9DD-4458-B246-9880381A0E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6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29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30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31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4B9A-6DBB-467F-9DCB-E3992244BE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009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marL="325440" indent="-325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718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95480" indent="-216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35040" indent="-2160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60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60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60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457200" y="98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ITICbanner2.gif"/>
          <p:cNvPicPr/>
          <p:nvPr/>
        </p:nvPicPr>
        <p:blipFill>
          <a:blip r:embed="rId2"/>
          <a:srcRect l="0" t="21618" r="0" b="5026"/>
          <a:stretch/>
        </p:blipFill>
        <p:spPr>
          <a:xfrm>
            <a:off x="-139680" y="6324480"/>
            <a:ext cx="9461520" cy="698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ITIC_noIOC.gif"/>
          <p:cNvPicPr/>
          <p:nvPr/>
        </p:nvPicPr>
        <p:blipFill>
          <a:blip r:embed="rId3"/>
          <a:stretch/>
        </p:blipFill>
        <p:spPr>
          <a:xfrm>
            <a:off x="282600" y="6299280"/>
            <a:ext cx="590400" cy="5587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3"/>
          <p:cNvSpPr/>
          <p:nvPr/>
        </p:nvSpPr>
        <p:spPr>
          <a:xfrm>
            <a:off x="766080" y="6365880"/>
            <a:ext cx="3690720" cy="4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2f2f2"/>
                </a:solidFill>
                <a:latin typeface="VAG Rounded Std Light"/>
                <a:ea typeface="MS PGothic"/>
              </a:rPr>
              <a:t>UNESCO/IOC-NOA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2f2f2"/>
                </a:solidFill>
                <a:latin typeface="VAG Rounded Std Light"/>
                <a:ea typeface="MS PGothic"/>
              </a:rPr>
              <a:t>International Tsunami Information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Picture 6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32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33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34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0CE6-B939-4CEF-8711-9C7120E749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1" name="Picture 6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 type="dt" idx="35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 type="ftr" idx="36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 type="sldNum" idx="37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CBDD-676B-4F68-BAF0-4FF28E6567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Picture 6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875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38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39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40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5CBB-5786-4894-9A58-21536611F5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Picture 6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918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41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42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43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DEEE-DDB6-4475-AC91-DBAC737FAB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Picture 8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 type="dt" idx="44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 type="ftr" idx="45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 type="sldNum" idx="46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55F7-9B31-4831-BF3F-ED968BEC56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marL="482760" indent="-48276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938160" indent="-44748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351080" indent="-40500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755720" indent="-39672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170080" indent="-40788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170080" indent="-4078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170080" indent="-4078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"/>
          <p:cNvSpPr/>
          <p:nvPr/>
        </p:nvSpPr>
        <p:spPr>
          <a:xfrm>
            <a:off x="592200" y="9907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3366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479520" indent="-47952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934920" indent="-44424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347840" indent="-40176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9348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166840" indent="-40464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166840" indent="-4046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166840" indent="-4046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592200" y="9907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3366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2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3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3FE6-CAF5-41F5-A5D0-A0C74D1979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4"/>
          <p:cNvSpPr/>
          <p:nvPr/>
        </p:nvSpPr>
        <p:spPr>
          <a:xfrm>
            <a:off x="592200" y="9907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3366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marL="480960" indent="-48096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936720" indent="-44604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349280" indent="-40320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754280" indent="-39528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170080" indent="-40644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170080" indent="-406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170080" indent="-406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4"/>
          <p:cNvSpPr/>
          <p:nvPr/>
        </p:nvSpPr>
        <p:spPr>
          <a:xfrm>
            <a:off x="592200" y="9907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3366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marL="482760" indent="-48276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938160" indent="-44748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351080" indent="-40500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755720" indent="-39672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170080" indent="-40788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170080" indent="-4078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170080" indent="-4078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AutoShape 4"/>
          <p:cNvSpPr/>
          <p:nvPr/>
        </p:nvSpPr>
        <p:spPr>
          <a:xfrm>
            <a:off x="592200" y="9907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3366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marL="482760" indent="-48276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938160" indent="-44748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351080" indent="-40500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755720" indent="-39672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170080" indent="-40788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170080" indent="-4078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170080" indent="-4078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8471-EEE3-498F-B182-3A56E9A4DA69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AutoShape 7"/>
          <p:cNvSpPr/>
          <p:nvPr/>
        </p:nvSpPr>
        <p:spPr>
          <a:xfrm>
            <a:off x="685800" y="4143240"/>
            <a:ext cx="7770960" cy="9072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3366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4680" rIns="9468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4"/>
          <p:cNvSpPr/>
          <p:nvPr/>
        </p:nvSpPr>
        <p:spPr>
          <a:xfrm>
            <a:off x="3581280" y="228600"/>
            <a:ext cx="539460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0"/>
                </a:solidFill>
                <a:latin typeface="Arial"/>
                <a:ea typeface="Arial"/>
              </a:rPr>
              <a:t>UNESCO – IOC – NOAA - ITI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90"/>
                </a:solidFill>
                <a:latin typeface="Arial"/>
                <a:ea typeface="Arial"/>
              </a:rPr>
              <a:t> 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0"/>
                </a:solidFill>
                <a:latin typeface="Arial"/>
                <a:ea typeface="Arial"/>
              </a:rPr>
              <a:t>US NOAA Pacific Tsunami Warning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90"/>
                </a:solidFill>
                <a:latin typeface="Arial"/>
                <a:ea typeface="Arial"/>
              </a:rPr>
              <a:t> 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0"/>
                </a:solidFill>
                <a:latin typeface="Arial"/>
                <a:ea typeface="Arial"/>
              </a:rPr>
              <a:t>September 20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6"/>
          <p:cNvGrpSpPr/>
          <p:nvPr/>
        </p:nvGrpSpPr>
        <p:grpSpPr>
          <a:xfrm>
            <a:off x="534960" y="428760"/>
            <a:ext cx="2800440" cy="573120"/>
            <a:chOff x="534960" y="428760"/>
            <a:chExt cx="2800440" cy="573120"/>
          </a:xfrm>
        </p:grpSpPr>
        <p:pic>
          <p:nvPicPr>
            <p:cNvPr id="323" name="Picture 4" descr=""/>
            <p:cNvPicPr/>
            <p:nvPr/>
          </p:nvPicPr>
          <p:blipFill>
            <a:blip r:embed="rId2"/>
            <a:stretch/>
          </p:blipFill>
          <p:spPr>
            <a:xfrm>
              <a:off x="2030400" y="447480"/>
              <a:ext cx="560160" cy="53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10" descr="ITIC_logo_bw_20130809.png"/>
            <p:cNvPicPr/>
            <p:nvPr/>
          </p:nvPicPr>
          <p:blipFill>
            <a:blip r:embed="rId3"/>
            <a:stretch/>
          </p:blipFill>
          <p:spPr>
            <a:xfrm>
              <a:off x="2751120" y="428760"/>
              <a:ext cx="584280" cy="5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Picture 11" descr="UNESCO-IOC_nowords.png"/>
            <p:cNvPicPr/>
            <p:nvPr/>
          </p:nvPicPr>
          <p:blipFill>
            <a:blip r:embed="rId4"/>
            <a:stretch/>
          </p:blipFill>
          <p:spPr>
            <a:xfrm>
              <a:off x="534960" y="451440"/>
              <a:ext cx="1335600" cy="52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479520" indent="-47952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934920" indent="-44424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347840" indent="-40176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9348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166840" indent="-40464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166840" indent="-4046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166840" indent="-4046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771B-850C-4C1F-8A9C-FC5ECDF65AEC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Angsan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800" y="2142720"/>
            <a:ext cx="7772400" cy="18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National TWC SOPs – Using PTWC New Products for Threat Assessment: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riteria Tables, Message Template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0" name="TextBox 1"/>
          <p:cNvSpPr/>
          <p:nvPr/>
        </p:nvSpPr>
        <p:spPr>
          <a:xfrm>
            <a:off x="685800" y="4648320"/>
            <a:ext cx="7488360" cy="22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Laura K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, UNESCO/IOC – NOAA International Tsunami Information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ura.kong@noaa.g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Charles McCre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, US NOAA Pacific Tsunami Warning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les.mccreery@noaa.g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Rectangle 1"/>
          <p:cNvSpPr/>
          <p:nvPr/>
        </p:nvSpPr>
        <p:spPr>
          <a:xfrm>
            <a:off x="380880" y="1143000"/>
            <a:ext cx="861084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mic EXISTING PTWC Text Bulletin (Warning, Watch, Inform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c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 Header, EQ Info, Evaluation, Forecast (if applicable), Recommended Actions (depending on Threat Level), ETA, Potential Impacts, Tsunami Observations, Next Update and Additional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stomize for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Local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lace PTWC with Country’s NT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tain only country locs (for threat, ETA).  Delete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cify Local Authority for Public Safety Action (Evacuation), Contact info / how to obtain evac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cify update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Rectangle 2"/>
          <p:cNvSpPr/>
          <p:nvPr/>
        </p:nvSpPr>
        <p:spPr>
          <a:xfrm>
            <a:off x="53352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0000"/>
                </a:solidFill>
                <a:latin typeface="Arial"/>
                <a:ea typeface="Angsana New"/>
              </a:rPr>
              <a:t>Message Products for Alert Level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2"/>
          <p:cNvSpPr/>
          <p:nvPr/>
        </p:nvSpPr>
        <p:spPr>
          <a:xfrm>
            <a:off x="228600" y="0"/>
            <a:ext cx="9601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0000"/>
                </a:solidFill>
                <a:latin typeface="Arial"/>
                <a:ea typeface="Angsana New"/>
              </a:rPr>
              <a:t>New Products – Sharing of TWFP product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Rectangle 2"/>
          <p:cNvSpPr/>
          <p:nvPr/>
        </p:nvSpPr>
        <p:spPr>
          <a:xfrm>
            <a:off x="380880" y="1447920"/>
            <a:ext cx="8001000" cy="42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ide whether to share Graphical Products (currently only to TWFP by emai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Products to sh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Wh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products be adjusted / customized before shar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socialize/train for shar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2"/>
          <p:cNvSpPr/>
          <p:nvPr/>
        </p:nvSpPr>
        <p:spPr>
          <a:xfrm>
            <a:off x="457200" y="1522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NTWC – TER SO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2"/>
          <p:cNvSpPr/>
          <p:nvPr/>
        </p:nvSpPr>
        <p:spPr>
          <a:xfrm>
            <a:off x="533520" y="1371600"/>
            <a:ext cx="861048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y Stakeholders.  Specify ro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be end-to-end (detection to evacu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 Communication Flow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5713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Lucida Grand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o does 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5713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Lucida Grand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tant / Regional – Loc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5713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Lucida Grand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rning, Watch, Information Al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eline-driven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5713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Lucida Grand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o does What and 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5713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Lucida Grand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, Products,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Rectangle 2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c0000"/>
                </a:solidFill>
                <a:latin typeface="Arial"/>
                <a:ea typeface="Angsana New"/>
              </a:rPr>
              <a:t>Example – Tsunami Warning Communication Flow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Box 7"/>
          <p:cNvSpPr/>
          <p:nvPr/>
        </p:nvSpPr>
        <p:spPr>
          <a:xfrm>
            <a:off x="1015920" y="3888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6"/>
          <p:cNvSpPr/>
          <p:nvPr/>
        </p:nvSpPr>
        <p:spPr>
          <a:xfrm>
            <a:off x="304920" y="1219320"/>
            <a:ext cx="6219720" cy="355320"/>
          </a:xfrm>
          <a:prstGeom prst="rect">
            <a:avLst/>
          </a:prstGeom>
          <a:solidFill>
            <a:srgbClr val="ffff00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8"/>
          <p:cNvSpPr/>
          <p:nvPr/>
        </p:nvSpPr>
        <p:spPr>
          <a:xfrm>
            <a:off x="457200" y="6313320"/>
            <a:ext cx="8550360" cy="544680"/>
          </a:xfrm>
          <a:prstGeom prst="rect">
            <a:avLst/>
          </a:prstGeom>
          <a:solidFill>
            <a:srgbClr val="ffff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9" name="Picture 1" descr="SOP_TsuInfoFlow_RMI_rev.pdf"/>
          <p:cNvPicPr/>
          <p:nvPr/>
        </p:nvPicPr>
        <p:blipFill>
          <a:blip r:embed="rId1"/>
          <a:stretch/>
        </p:blipFill>
        <p:spPr>
          <a:xfrm>
            <a:off x="533520" y="566640"/>
            <a:ext cx="8153280" cy="6299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2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c0000"/>
                </a:solidFill>
                <a:latin typeface="Arial"/>
                <a:ea typeface="Angsana New"/>
              </a:rPr>
              <a:t>Example – Tsunami Warning Communication Flow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1" name="Picture 4" descr="Yap State tsunami communication flow_local.pdf"/>
          <p:cNvPicPr/>
          <p:nvPr/>
        </p:nvPicPr>
        <p:blipFill>
          <a:blip r:embed="rId1"/>
          <a:stretch/>
        </p:blipFill>
        <p:spPr>
          <a:xfrm>
            <a:off x="152280" y="512640"/>
            <a:ext cx="8991720" cy="6353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2"/>
          <p:cNvSpPr/>
          <p:nvPr/>
        </p:nvSpPr>
        <p:spPr>
          <a:xfrm>
            <a:off x="45720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Angsana New"/>
              </a:rPr>
              <a:t>Timeline-driven SO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2"/>
          <p:cNvSpPr/>
          <p:nvPr/>
        </p:nvSpPr>
        <p:spPr>
          <a:xfrm>
            <a:off x="0" y="1143000"/>
            <a:ext cx="899172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0972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anning for seamless, effective response.  Manage expectation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cify critical actions / decision points.  What decision, and when it must occ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 TIME to Communication Flow Cha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, What, Who, How, To wh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4" name="Object 1"/>
          <p:cNvGraphicFramePr/>
          <p:nvPr/>
        </p:nvGraphicFramePr>
        <p:xfrm>
          <a:off x="228600" y="4208400"/>
          <a:ext cx="853452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208400"/>
                    <a:ext cx="85345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2"/>
          <p:cNvSpPr/>
          <p:nvPr/>
        </p:nvSpPr>
        <p:spPr>
          <a:xfrm>
            <a:off x="22860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ngsana New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7" name="Picture 1" descr="SOP_TsuInfoFlow_RMI_draft_may14_itic.pdf"/>
          <p:cNvPicPr/>
          <p:nvPr/>
        </p:nvPicPr>
        <p:blipFill>
          <a:blip r:embed="rId1"/>
          <a:srcRect l="4381" t="9004" r="4159" b="5146"/>
          <a:stretch/>
        </p:blipFill>
        <p:spPr>
          <a:xfrm>
            <a:off x="0" y="33480"/>
            <a:ext cx="9144000" cy="6632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Picture 2" descr="SOP_TsuInfoFlow_RMI_draft_may14_itic.pdf"/>
          <p:cNvPicPr/>
          <p:nvPr/>
        </p:nvPicPr>
        <p:blipFill>
          <a:blip r:embed="rId1"/>
          <a:srcRect l="4535" t="9430" r="3733" b="5336"/>
          <a:stretch/>
        </p:blipFill>
        <p:spPr>
          <a:xfrm>
            <a:off x="15840" y="279360"/>
            <a:ext cx="9128160" cy="6553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1" descr="SOP_TsuInfoFlow_RMI_draft_may14_itic.pdf"/>
          <p:cNvPicPr/>
          <p:nvPr/>
        </p:nvPicPr>
        <p:blipFill>
          <a:blip r:embed="rId1"/>
          <a:srcRect l="4374" t="9282" r="4112" b="4215"/>
          <a:stretch/>
        </p:blipFill>
        <p:spPr>
          <a:xfrm>
            <a:off x="0" y="179280"/>
            <a:ext cx="9144000" cy="6678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Final Guidance  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152280" y="12949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marL="480960" indent="-48096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member Goal:  Early warning to save liv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ccessful warning must be in time, understood, and actionable (e.g., Warning =&gt; Evacuate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you have a local threat (&lt; 30-45 min), Education       is priority.  People must 1. Act on Natural Warnings,        2. Self-Evacuate - do not wait for NTWC warning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TWC to issue Alert using pre-determined criteria.  Duty Staff know what to look for in PTWC produc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TWC can decide Alert Level using only Public Text product (e.g., map forecast height to Warning).         NTWC does NOT need to use all products (these add value, further detail).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457200" y="1294920"/>
            <a:ext cx="8305920" cy="5357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marL="482760" indent="-482760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ct 1, 2014 PTWC to discontinue issuing Warning, Watch, Information Bulletins to      PTWC countries.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2760" indent="-482760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ead, PTWC will issue Messages with  Tsunami Forecasts (est wave heights or amplitudes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2760" indent="-482760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t by email only to Country TWF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2760" indent="-482760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FP/NTWC will be responsible for issuing Warning, Watch, Information Alert for its own country emergenc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8160" indent="-447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2760" indent="-4827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800" y="2142720"/>
            <a:ext cx="7772400" cy="18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ank You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53" name="TextBox 1"/>
          <p:cNvSpPr/>
          <p:nvPr/>
        </p:nvSpPr>
        <p:spPr>
          <a:xfrm>
            <a:off x="838080" y="4518000"/>
            <a:ext cx="7488360" cy="22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Laura K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, UNESCO/IOC – NOAA International Tsunami Information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ura.kong@noaa.g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Charles McCre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, US NOAA Pacific Tsunami Warning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les.mccreery@noaa.g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80880" y="3348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ountry NTWC tsunami event SOPs: 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4" name="TextBox 3"/>
          <p:cNvSpPr/>
          <p:nvPr/>
        </p:nvSpPr>
        <p:spPr>
          <a:xfrm>
            <a:off x="152280" y="1219320"/>
            <a:ext cx="899172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1400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Alert Criteria Table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PTWC Enhanced Products User’s Guide) Appendices VI, VIII) gives alert thresholds and Emergency Response ac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1400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Message templates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Appendix VII) facilitates quick std responses.  Checklists remind Duty Staff during ev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1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igh-level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Communication Flow Chart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hows primary agencies / stakeholders of warning chain                              intl Tsunami Service Providers =&gt; Natl / Local Warning  and Emergency Authorities =&gt; Publ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1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lanning efforts develop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Timeline-driven SOPs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escribing Time, Who, What, How, and To whom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1400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Exercise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practice and improve TWC / TER SOP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0000"/>
                </a:solidFill>
                <a:latin typeface="Arial"/>
              </a:rPr>
              <a:t>Alert Criteria Table</a:t>
            </a: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457200" y="1499760"/>
            <a:ext cx="8686800" cy="5357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marL="480960" indent="-48096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esholds are used to assign Alert Levels (Warning, Advisory, Watch, Information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ert Levels correspond to country’s Forecast Maximum Coastal Wave Amplitude and/or earthquake magnitu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ergency Response Actions correspond to Alert Level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36720" indent="-446040">
              <a:lnSpc>
                <a:spcPct val="100000"/>
              </a:lnSpc>
              <a:spcAft>
                <a:spcPts val="1800"/>
              </a:spcAft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36720" indent="-44604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TextBox 1"/>
          <p:cNvSpPr/>
          <p:nvPr/>
        </p:nvSpPr>
        <p:spPr>
          <a:xfrm>
            <a:off x="380880" y="1219320"/>
            <a:ext cx="8763120" cy="59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may wish to further customize by assigning different thresholds for different source regions.      Two situ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O QUANTITATIVE PTWC FORECAST.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TWC Information Statement or Threat Message within 10 min after M6.5+ earthquak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QUANTITATIVE PTWC FORECAST PRODUCT 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TWC Threat Message, ~30 min after large earthquake with tsunamigenic potenti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rning / Watch Alerts (1.0 m threshol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rning / Advisory / Watch Alerts (0.3 / 1.0 m threshold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Rectangle 2"/>
          <p:cNvSpPr/>
          <p:nvPr/>
        </p:nvSpPr>
        <p:spPr>
          <a:xfrm>
            <a:off x="457200" y="1522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0000"/>
                </a:solidFill>
                <a:latin typeface="Arial"/>
                <a:ea typeface="Angsana New"/>
              </a:rPr>
              <a:t>Simple Criteria Tab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lert Criteria Tabl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T + 10 min:  No PTWC Forec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0" name="Picture 1" descr="1_CRITERIA_TABLE_PTWC_NoForecast_corr.pdf"/>
          <p:cNvPicPr/>
          <p:nvPr/>
        </p:nvPicPr>
        <p:blipFill>
          <a:blip r:embed="rId1"/>
          <a:srcRect l="7170" t="7906" r="6248" b="14785"/>
          <a:stretch/>
        </p:blipFill>
        <p:spPr>
          <a:xfrm>
            <a:off x="-25560" y="1066680"/>
            <a:ext cx="9169560" cy="5791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-152640" y="-360"/>
            <a:ext cx="92962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lert Criteria Tabl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T + 30 min:  Quantitative PTWC Forecast – 1 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3" name="Picture 1" descr="2A.CRITERIA_TABLE_PTWCforecast_WWI_corr.pdf"/>
          <p:cNvPicPr/>
          <p:nvPr/>
        </p:nvPicPr>
        <p:blipFill>
          <a:blip r:embed="rId1"/>
          <a:srcRect l="12140" t="23035" r="11487" b="32591"/>
          <a:stretch/>
        </p:blipFill>
        <p:spPr>
          <a:xfrm>
            <a:off x="-152280" y="1143000"/>
            <a:ext cx="9296280" cy="5715000"/>
          </a:xfrm>
          <a:prstGeom prst="rect">
            <a:avLst/>
          </a:prstGeom>
          <a:ln w="0">
            <a:noFill/>
          </a:ln>
        </p:spPr>
      </p:pic>
      <p:sp>
        <p:nvSpPr>
          <p:cNvPr id="1024" name="TextBox 2"/>
          <p:cNvSpPr/>
          <p:nvPr/>
        </p:nvSpPr>
        <p:spPr>
          <a:xfrm>
            <a:off x="11920680" y="321804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-152640" y="-360"/>
            <a:ext cx="92962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lert Criteria Tabl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T + 30 min:  Quantitative PTWC Forecast – 0.3 / 1 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6" name="Picture 1" descr="2B.CRITERIA_TABLE_PTWCforecast_WAWI_corr.pdf"/>
          <p:cNvPicPr/>
          <p:nvPr/>
        </p:nvPicPr>
        <p:blipFill>
          <a:blip r:embed="rId1"/>
          <a:srcRect l="13103" t="13765" r="11172" b="29137"/>
          <a:stretch/>
        </p:blipFill>
        <p:spPr>
          <a:xfrm>
            <a:off x="0" y="1168560"/>
            <a:ext cx="9144000" cy="5689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Rectangle 1"/>
          <p:cNvSpPr/>
          <p:nvPr/>
        </p:nvSpPr>
        <p:spPr>
          <a:xfrm>
            <a:off x="380880" y="1295280"/>
            <a:ext cx="8610840" cy="48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r’s Guide – Appendix V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phasize NTWC and NDMO/DMO are authorities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PTWC or other inter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 Templates for easy fill-in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r automatically fill-in with incoming PTWC message).  Basic text does not change.                Duty Staff only need to fill in event inform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lude Review option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utomated process or GUI used, need to make sure there are ‘REVIEW BEFORE SEND’ and ‘MANUAL ENTRY’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2"/>
          <p:cNvSpPr/>
          <p:nvPr/>
        </p:nvSpPr>
        <p:spPr>
          <a:xfrm>
            <a:off x="53352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0000"/>
                </a:solidFill>
                <a:latin typeface="Arial"/>
                <a:ea typeface="Angsana New"/>
              </a:rPr>
              <a:t>Message Products for Alert Level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17:16:15Z</dcterms:created>
  <dc:creator>Kelly</dc:creator>
  <dc:description/>
  <dc:language>en-US</dc:language>
  <cp:lastModifiedBy>Laura Kong</cp:lastModifiedBy>
  <cp:lastPrinted>2014-09-17T21:07:40Z</cp:lastPrinted>
  <dcterms:modified xsi:type="dcterms:W3CDTF">2014-09-18T14:37:28Z</dcterms:modified>
  <cp:revision>176</cp:revision>
  <dc:subject/>
  <dc:title>Slide 1</dc:title>
</cp:coreProperties>
</file>