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D298-1637-4578-89A2-0264F0EC1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0D90-BDCA-48B3-95F2-A827E4723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9152-E023-47AE-8B50-CEB193DA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8DB7-4DA2-41DF-B6E8-DEF546018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Marshall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9ADC-2C0D-4003-A60A-BCC79A7BE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rom Yap State, Micronesia for Local Tsunami, with delegated authority to issue Warning and Evacuation due to urgency of al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4083-CACF-43F1-BBAC-11707C69E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Marshall Islands – draft exampl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CA29-C67F-43A8-8652-7A1FAAE4A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lan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FC7C91-7459-4AB7-A417-A33E1424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lan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BFFACA-13DC-473C-8134-698B0472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7206-1895-4558-B2F4-D3A55E26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, VII, VII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DF30-51B3-4A3E-B094-7D0814679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lan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CBC4FF-264F-4158-BEFB-C334A0F4B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, VII, VII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FF77-0114-48ED-81A0-9414F68D6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ACA8-0C67-49A5-812D-76928E7A9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B5CF-0F8A-48CA-9B12-140EF6DE1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Appendices VI for more expla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F074-3455-4904-885A-F7A22A670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1D99C-1BBC-4977-817E-9ACB0EC8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DAB6F-7117-4634-88A6-DE9AF1D2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F9516-A676-43FD-BF80-C1195B4B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AA786-7020-4691-B57B-25958D70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CDDF8-191C-4392-AAD8-DD4E1CF6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86F15-8146-42A5-B534-8126851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1AFDF-7DC7-4FB4-AAFA-61772205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54B01-BAF5-4E55-8773-EF3D421E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5F4C1-F905-431A-9878-616188C1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0E233-5E52-49A7-B6B3-4343C7FB29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1309F-7A48-430C-B3EF-82FA1BA1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2C455-A84A-4859-A529-F595FD4F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B59BA-1F89-4B93-BFE5-40EAA2EB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0EBDD-123D-4FAF-9867-D853BFFC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2CA8C-648E-48ED-B39B-80663010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BFCAD5-9016-43BA-9D24-D938E16D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9C642-1B9C-4E2B-863B-46543DDA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993EE-1C1D-4E7B-BC80-7E8612F9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432CC-E21D-4B61-BEFA-9A9A470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B60A3-F5CA-4C7F-9DEF-91291826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BF7CF-7D46-4695-B8FD-B0865D58EF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B390E5-D57E-413A-9CBD-31377D5B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F7CAB9-5E0E-488A-851B-56E1BFF3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7AEF85-96BC-4E14-AFF9-D3DC062D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5EF22-971D-4D5E-8641-A40B6DB7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9A0F96-5CE8-4B6F-9584-B0E9931A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41014B-BDEF-4A5E-BACB-B23AA64E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2F07E5-CF5E-47D8-8CC7-28DECDF9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3E9AE5-BA93-4A42-9889-28776C11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0ABE61-6F83-4DC4-A1B3-EF20280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51B4CC-0337-40A9-9735-7CB1A00D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7E3F0D-7271-40C2-A82C-6E7C6D1D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FAC2FD-91EA-43E9-BD67-096B3817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BE689-DF64-478C-ADC1-E22BD418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D6EB0A-6231-42DE-BCC7-C507FDE9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0627A-6ED6-4179-9FD0-CEF891A7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083147-99D6-4967-AE39-956BF089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448474-3AE1-4615-B65D-367E3A94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CF38D-F6EE-4A13-938F-ACBB5DB6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399273-6511-491F-861C-2171ED1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C368A4-FA84-4023-841A-59A4181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DA2F3-53A2-4524-921A-7FA3774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D30909-E539-42C5-B947-6C511FD6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0B0964-024B-4342-B05D-85801EA9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4923D9-E4D8-4A27-9A23-25C361BE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1E454A-EFDB-474B-B31E-01B0156A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603659-C313-4834-BF8E-B951877F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CC1036-9E81-41A2-9A1D-14BE9091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A7DBE8-EB27-437F-9975-D73F52D5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096BEB-8975-4312-9469-C543BFD3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6EFA94-B341-4534-89DC-04D25851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8427AD-12AF-48AE-BAC0-83D5C238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D8F80A-6B4E-423F-A51F-8CB2E102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66B515-7A58-4CC6-A303-1561843D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1BF074-DEA7-49F7-97E2-98938B66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A41B4A-42F8-4E85-8DE2-99F55DA1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17FAEF-0034-4195-AD2C-E071C390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2C251E-7751-4262-A28F-6E00783F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6EC6DC-E920-4E6B-9F72-DD4A1BE2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A93C15-B8D1-4DCB-9A12-B5FFBBDB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1282B6-EE6F-4B05-BC9F-283CA61A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598085-6871-4D27-B7BB-985FC66D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01C9B7-A76B-4C2A-B135-A868345F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BEB3A1-F5FA-49EB-A883-6966CAEF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5C63CE-01BD-4C4B-BDB4-2CFEC605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553381-11E3-490E-9F11-599ED0C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55FA26-E70B-47C7-A554-4F412D45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550BA0-2281-4CF3-84AD-422EB645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C3E497-DCA2-46C1-BE16-4388A3C2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2E1AD-B21B-42EC-8B0E-91E96E16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015A7-9BE7-4AA6-9F2F-0DD3BBCF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7B20B-B57E-49D5-A5F6-AC83A3D0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66722-3DC1-44A9-95A9-2A8B50C5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B9495-1860-4CD5-B935-6398B286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66180-A858-4E4C-A18F-AE097FAD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982C1-431E-4DA6-9EE7-4667E31C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ECDCF-A263-4B15-9A46-D2EE0989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B4A21-58F1-40A1-980C-958EB4F7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7ECCF-B3B3-4919-9DFA-A537B5AA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0BFDA-F8F3-4C12-A95A-3A7E6AFD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92E72-EC86-4F99-80FC-8DBEB7FE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F87CB-3612-4A3B-BDD9-E1953106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B0052-A0C1-47BF-8B86-D93377C6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935BF-8F48-45D5-94D2-E9B2DA7D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9332D-5569-4307-822E-83C2B14E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2C250-449A-4C3D-BA9A-A83469B2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AB95C-8FFA-46C3-9FDA-189F1EF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6AD66-0AEA-4424-92E5-B4557DC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33EDE-4D80-4E14-BFE8-EE3E02BA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F1C52-156F-4853-AB7D-1F918C5F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1E826-01F9-4A9A-A3B3-B2C2D90E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8339D-CDCD-471D-8D3C-B6575FFD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9C20E-12B1-424E-8C53-C58EFB95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7DFE5D-228F-4C22-93E9-BECF9406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EB0E31-7F48-4453-944B-C6B9AD75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B771C4-3D06-43D2-9DB7-E802D4E8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01FEE6-C6E4-47E2-81A5-98DCF125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D727D1-DAF8-462B-A816-524297E6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3B6433-C060-413A-8C29-B7996300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DAE0CA-2D9A-4180-8BAE-F95E5B4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1158EC-DF34-4DC7-A466-6E8D5999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6520D0-6BE5-41BF-9DA4-1B23C08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D1DC5A-1A3C-451C-9B58-C8DD1793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AF50E5-5A38-4408-B072-9AE932BD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0A86BC-FE8B-4B01-88F6-B197EC99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98E88-B195-41BC-A308-DE356A52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CD6BE-D3CD-41AD-A717-B839BB3A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059B1-A2C8-4ABC-9283-B0916011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9230B-A7A1-4509-8F1E-69167A0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F2EFA-79A6-4BC0-8CA8-4955BE78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E5D5F-F773-4AA8-B216-C9134AC3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352B7-C20D-4DC2-BD36-2586D227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31E09-3875-41CC-A302-5BE3083B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F46B1-EB2C-40CB-84A4-11C82AB9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58A1B-EC3A-415A-A7BA-3B6D4306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E71BE-2D5F-42DF-8A63-F2F74E72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9E5BF-5699-44B7-ABDA-C8D7D66E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BDA50D-2F18-4484-ACCB-D0221D4C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F16450-A8E8-4E38-B435-39BDA806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2D3242-3CC5-47B3-A083-AFA981B4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EF02A1-D65D-4DC7-898F-E5418DC3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061FB0-E3A2-4B5A-9921-FC9BE94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A6D5A8-D3A1-49F5-BC4F-34324B0D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18F913-3A34-4E92-9507-A7FA2869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D36C0C-A9C9-486D-A433-36CDA20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61066B-1745-48FF-AB36-C24AC19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105CF8-C479-4ADA-991A-E877C391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0D2DEA-9717-4E5B-91F6-DCEDCB7E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E26FA3-ED95-4076-B4D0-C38F817E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CEDFD8-6E17-4578-9F87-C6CC5DD9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7BAE7A-032C-45FF-9E00-34E069B0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C38300-15EC-457C-9E58-700616A2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15F5F1-EEF5-4ADA-A88B-A40C3EF7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535F63-7D3D-442E-A736-2FF4380F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598D84-D3B1-4371-B6F8-B523ED88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A79AFA-3772-446E-B8C5-5AABB853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8B0017-F64C-46AA-BDB1-B7B0CE43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9F8358-1958-4D99-B3CF-51464A9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ADC75F-891C-4425-8730-3D6EF173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224F4D-2F0D-44D8-823B-04510F24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9FA87D-E8EE-4A13-BF83-AEA8EA25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67D4A3-917A-4A37-9E5B-AC32AD18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31D953-01D0-4537-BA3F-A58ACB61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1217A2-068F-497D-B4C5-374D9685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37EEA8-314F-44BC-BD03-192FB44A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AC6CD4-A352-450F-BCAC-E4F7E499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4133D8-77C5-4440-B93E-96626DEC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4AB2CD-C66C-4626-BB78-7FEDF17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3B6D68-2685-4777-9A5B-3017857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01B2D2-4090-4C1E-A8C1-06640EB7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37B159-AF68-4608-8A38-32B720C3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B9FD70-9430-47CE-986F-D87A0E70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A9DAFB-D0C6-43DB-B034-4A6FE5FF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4EC6D8-6D40-4CDB-9C1E-92801A01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F42C83-EE79-4858-B177-E457B04C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4FDE83-7866-418A-825A-D997530A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1B7431-2260-4643-A2A3-C9A9AE0F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C5DB1D-FCD2-4E61-B493-696FAB8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2B125F-85AB-4EFD-9DF2-CFB2FDC4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FBDCB8-0AEE-4A97-809A-0A9C17F8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D57FCA-52B3-4DBF-92B1-8D192028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0398C4-B7F4-4738-9E3B-8160274F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65EB2A-FF25-4A36-8A20-05273D76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0D9288-1A77-4A9C-8049-C0FC97D8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3B1273-C37F-4098-98FE-1CD04AA6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7B6-71FC-43D7-B8C9-6A6C7B45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90F-9129-48C5-83EF-44BD3997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A8D-F630-48EC-8517-84B4D83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C12-3833-4C1C-BE78-2D065CC2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713-06BE-40BF-8CA4-0BF56A5A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CC2-EE23-46E7-AC71-C923D666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A65-4601-4015-A6AC-8DD2969F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CAA-0053-4ED5-99D0-54C68522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EA2-F2E2-4843-8299-B45F1463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4ED-68A3-4B31-86D4-E93FEA03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C84-EAE3-4A43-80F3-FAEFBCA7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E23-90BB-4A87-B19E-D7DCA102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4BA5D-4DE0-442C-BF16-51F018D47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B5CFE-9C4B-44DC-97DF-930D711F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47B28-6EA2-4DF8-8624-768D349D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6AB02-1112-4480-82AA-A2392254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EF939-7FDF-44BC-8C36-A5A4C782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D773A-EB50-4FBA-9674-74EEED1C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76A79-BCC9-4B23-8723-D65B5C60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64C8A-083F-46A0-A564-477380B5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E860F-AF12-4CC6-B8CE-C40943DF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173DA-3C6F-41CF-B9E0-C3AADE13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8EB90-D9BE-4131-AA04-6FC891B8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7F625-98D1-42D5-A89C-783D9C40C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CA887-E563-471D-88FD-3E0BB18D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D4FCF-397E-4222-81E0-4D68AF7D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C9BF6-490B-41E0-8A69-4F3BD3BE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0960" indent="-4809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460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4032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4280" indent="-3952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64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6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6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F22B-64A6-4687-9BFE-E9BAF96DF50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9" descr=""/>
          <p:cNvPicPr/>
          <p:nvPr/>
        </p:nvPicPr>
        <p:blipFill>
          <a:blip r:embed="rId3"/>
          <a:stretch/>
        </p:blipFill>
        <p:spPr>
          <a:xfrm rot="5400000">
            <a:off x="3160080" y="-3176280"/>
            <a:ext cx="2819520" cy="9172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BB8B-2C2D-49D4-A1A0-4F0226C74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1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1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1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3ED9-9C52-4EC8-A610-0C4F29D65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A039-093F-40A4-890E-1755C6F7E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2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3712-BB52-47DF-B4F0-14C399A10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3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4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5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8194-5D68-41C4-9571-0F9A64A77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26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27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28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D47-531D-4D6E-BAA5-8A2E685FA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9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30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31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FE56-EA7A-4421-B0CB-37A797FD8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0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5440" indent="-325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18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16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160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60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60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60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98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ITICbanner2.gif"/>
          <p:cNvPicPr/>
          <p:nvPr/>
        </p:nvPicPr>
        <p:blipFill>
          <a:blip r:embed="rId2"/>
          <a:srcRect l="0" t="21618" r="0" b="5026"/>
          <a:stretch/>
        </p:blipFill>
        <p:spPr>
          <a:xfrm>
            <a:off x="-139680" y="6324480"/>
            <a:ext cx="9461520" cy="69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ITIC_noIOC.gif"/>
          <p:cNvPicPr/>
          <p:nvPr/>
        </p:nvPicPr>
        <p:blipFill>
          <a:blip r:embed="rId3"/>
          <a:stretch/>
        </p:blipFill>
        <p:spPr>
          <a:xfrm>
            <a:off x="282600" y="6299280"/>
            <a:ext cx="590400" cy="558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3"/>
          <p:cNvSpPr/>
          <p:nvPr/>
        </p:nvSpPr>
        <p:spPr>
          <a:xfrm>
            <a:off x="766080" y="6365880"/>
            <a:ext cx="369072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2f2f2"/>
                </a:solidFill>
                <a:latin typeface="VAG Rounded Std Light"/>
                <a:ea typeface="MS PGothic"/>
              </a:rPr>
              <a:t>UNESCO/IOC-NOA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AG Rounded Std Light"/>
                <a:ea typeface="MS PGothic"/>
              </a:rPr>
              <a:t>International Tsunami Information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32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33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4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9AD6-F393-457D-A450-9922BB936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35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36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37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9D4C-C25A-43B5-8A44-56D6518F4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8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9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40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4601-F012-4166-AE79-ABA2CF1BF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4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4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4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E96A-5274-459A-A04D-9C3CD7591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4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4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4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F0DD-B4FF-4CD7-85C6-A1BB9AA05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2760" indent="-482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-447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4050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5720" indent="-3967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78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F70D-10AC-49DB-8FE8-3D3ADA2E0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0960" indent="-4809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460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4032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4280" indent="-3952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64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6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6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2760" indent="-482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-447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4050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5720" indent="-3967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78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2760" indent="-482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-447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51080" indent="-40500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5720" indent="-3967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4078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407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35B2-D6DA-47A5-88A9-0B3E9412ABE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7"/>
          <p:cNvSpPr/>
          <p:nvPr/>
        </p:nvSpPr>
        <p:spPr>
          <a:xfrm>
            <a:off x="685800" y="4143240"/>
            <a:ext cx="7770960" cy="907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581280" y="228600"/>
            <a:ext cx="53946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Arial"/>
              </a:rPr>
              <a:t>UNESCO – IOC – NOAA - I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90"/>
                </a:solidFill>
                <a:latin typeface="Arial"/>
                <a:ea typeface="Arial"/>
              </a:rPr>
              <a:t>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Arial"/>
              </a:rPr>
              <a:t>US NOAA Pacific Tsunami Warning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90"/>
                </a:solidFill>
                <a:latin typeface="Arial"/>
                <a:ea typeface="Arial"/>
              </a:rPr>
              <a:t>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Arial"/>
              </a:rPr>
              <a:t>September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534960" y="428760"/>
            <a:ext cx="2800440" cy="573120"/>
            <a:chOff x="534960" y="428760"/>
            <a:chExt cx="2800440" cy="573120"/>
          </a:xfrm>
        </p:grpSpPr>
        <p:pic>
          <p:nvPicPr>
            <p:cNvPr id="323" name="Picture 4" descr=""/>
            <p:cNvPicPr/>
            <p:nvPr/>
          </p:nvPicPr>
          <p:blipFill>
            <a:blip r:embed="rId2"/>
            <a:stretch/>
          </p:blipFill>
          <p:spPr>
            <a:xfrm>
              <a:off x="2030400" y="447480"/>
              <a:ext cx="5601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0" descr="ITIC_logo_bw_20130809.png"/>
            <p:cNvPicPr/>
            <p:nvPr/>
          </p:nvPicPr>
          <p:blipFill>
            <a:blip r:embed="rId3"/>
            <a:stretch/>
          </p:blipFill>
          <p:spPr>
            <a:xfrm>
              <a:off x="2751120" y="428760"/>
              <a:ext cx="5842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11" descr="UNESCO-IOC_nowords.png"/>
            <p:cNvPicPr/>
            <p:nvPr/>
          </p:nvPicPr>
          <p:blipFill>
            <a:blip r:embed="rId4"/>
            <a:stretch/>
          </p:blipFill>
          <p:spPr>
            <a:xfrm>
              <a:off x="534960" y="451440"/>
              <a:ext cx="1335600" cy="52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C051-F857-4B53-BF64-9E1D045E3332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8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ational TWC SOPs – Using PTWC New Products for Threat Assessment: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iteria Tables, Message Templat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0" name="TextBox 1"/>
          <p:cNvSpPr/>
          <p:nvPr/>
        </p:nvSpPr>
        <p:spPr>
          <a:xfrm>
            <a:off x="685800" y="4648320"/>
            <a:ext cx="748836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Laura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UNESCO/IOC – NOAA International Tsunami Information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ra.kong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Charles McCre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US NOAA Pacific Tsunami Warn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les.mccreery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1"/>
          <p:cNvSpPr/>
          <p:nvPr/>
        </p:nvSpPr>
        <p:spPr>
          <a:xfrm>
            <a:off x="380880" y="1143000"/>
            <a:ext cx="86108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mic EXISTING PTWC Text Bulletin (Warning, Watch,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Header, EQ Info, Evaluation, Forecast (if applicable), Recommended Actions (depending on Threat Level), ETA, Potential Impacts, Tsunami Observations, Next Update and Additional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e fo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o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lace PTWC with Country’s NT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ain only country locs (for threat, ETA).  Delet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Local Authority for Public Safety Action (Evacuation), Contact info / how to obtain evac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update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53352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  <a:ea typeface="Angsana New"/>
              </a:rPr>
              <a:t>Message Products for Alert Leve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228600" y="0"/>
            <a:ext cx="9601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  <a:ea typeface="Angsana New"/>
              </a:rPr>
              <a:t>New Products – Sharing of TWFP produc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2"/>
          <p:cNvSpPr/>
          <p:nvPr/>
        </p:nvSpPr>
        <p:spPr>
          <a:xfrm>
            <a:off x="380880" y="1447920"/>
            <a:ext cx="800100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e whether to share Graphical Products (currently only to TWFP by e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roducts to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products be adjusted / customized before sha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ocialize/train for shar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2"/>
          <p:cNvSpPr/>
          <p:nvPr/>
        </p:nvSpPr>
        <p:spPr>
          <a:xfrm>
            <a:off x="45720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NTWC – TER S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2"/>
          <p:cNvSpPr/>
          <p:nvPr/>
        </p:nvSpPr>
        <p:spPr>
          <a:xfrm>
            <a:off x="533520" y="1371600"/>
            <a:ext cx="861048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Stakeholders.  Specify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end-to-end (detection to evac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 Communication Flow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oes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ant / Regional – 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, Watch, Information Al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line-driven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oes What and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5713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, Products,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  <a:ea typeface="Angsana New"/>
              </a:rPr>
              <a:t>Example – Tsunami Warning Communication Flo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7"/>
          <p:cNvSpPr/>
          <p:nvPr/>
        </p:nvSpPr>
        <p:spPr>
          <a:xfrm>
            <a:off x="1015920" y="3888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6"/>
          <p:cNvSpPr/>
          <p:nvPr/>
        </p:nvSpPr>
        <p:spPr>
          <a:xfrm>
            <a:off x="304920" y="1219320"/>
            <a:ext cx="6219720" cy="355320"/>
          </a:xfrm>
          <a:prstGeom prst="rect">
            <a:avLst/>
          </a:prstGeom>
          <a:solidFill>
            <a:srgbClr val="ffff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8"/>
          <p:cNvSpPr/>
          <p:nvPr/>
        </p:nvSpPr>
        <p:spPr>
          <a:xfrm>
            <a:off x="457200" y="6313320"/>
            <a:ext cx="8550360" cy="544680"/>
          </a:xfrm>
          <a:prstGeom prst="rect">
            <a:avLst/>
          </a:prstGeom>
          <a:solidFill>
            <a:srgbClr val="ffff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1" descr="SOP_TsuInfoFlow_RMI_rev.pdf"/>
          <p:cNvPicPr/>
          <p:nvPr/>
        </p:nvPicPr>
        <p:blipFill>
          <a:blip r:embed="rId1"/>
          <a:stretch/>
        </p:blipFill>
        <p:spPr>
          <a:xfrm>
            <a:off x="533520" y="566640"/>
            <a:ext cx="8153280" cy="629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  <a:ea typeface="Angsana New"/>
              </a:rPr>
              <a:t>Example – Tsunami Warning Communication Flo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Picture 4" descr="Yap State tsunami communication flow_local.pdf"/>
          <p:cNvPicPr/>
          <p:nvPr/>
        </p:nvPicPr>
        <p:blipFill>
          <a:blip r:embed="rId1"/>
          <a:stretch/>
        </p:blipFill>
        <p:spPr>
          <a:xfrm>
            <a:off x="152280" y="512640"/>
            <a:ext cx="8991720" cy="635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2"/>
          <p:cNvSpPr/>
          <p:nvPr/>
        </p:nvSpPr>
        <p:spPr>
          <a:xfrm>
            <a:off x="45720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ngsana New"/>
              </a:rPr>
              <a:t>Timeline-driven S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"/>
          <p:cNvSpPr/>
          <p:nvPr/>
        </p:nvSpPr>
        <p:spPr>
          <a:xfrm>
            <a:off x="0" y="1143000"/>
            <a:ext cx="8991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972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for seamless, effective response.  Manage expecta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critical actions / decision points.  What decision, and when it must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TIME to Communication Flow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, What, Who, How, To wh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4" name="Object 1"/>
          <p:cNvGraphicFramePr/>
          <p:nvPr/>
        </p:nvGraphicFramePr>
        <p:xfrm>
          <a:off x="228600" y="4208400"/>
          <a:ext cx="85345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208400"/>
                    <a:ext cx="85345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22860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ngsana New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Picture 1" descr="SOP_TsuInfoFlow_RMI_draft_may14_itic.pdf"/>
          <p:cNvPicPr/>
          <p:nvPr/>
        </p:nvPicPr>
        <p:blipFill>
          <a:blip r:embed="rId1"/>
          <a:srcRect l="4381" t="9004" r="4159" b="5146"/>
          <a:stretch/>
        </p:blipFill>
        <p:spPr>
          <a:xfrm>
            <a:off x="0" y="33480"/>
            <a:ext cx="9144000" cy="6632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SOP_TsuInfoFlow_RMI_draft_may14_itic.pdf"/>
          <p:cNvPicPr/>
          <p:nvPr/>
        </p:nvPicPr>
        <p:blipFill>
          <a:blip r:embed="rId1"/>
          <a:srcRect l="4535" t="9430" r="3733" b="5336"/>
          <a:stretch/>
        </p:blipFill>
        <p:spPr>
          <a:xfrm>
            <a:off x="15840" y="279360"/>
            <a:ext cx="912816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SOP_TsuInfoFlow_RMI_draft_may14_itic.pdf"/>
          <p:cNvPicPr/>
          <p:nvPr/>
        </p:nvPicPr>
        <p:blipFill>
          <a:blip r:embed="rId1"/>
          <a:srcRect l="4374" t="9282" r="4112" b="4215"/>
          <a:stretch/>
        </p:blipFill>
        <p:spPr>
          <a:xfrm>
            <a:off x="0" y="179280"/>
            <a:ext cx="9144000" cy="667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nal Guidance 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152280" y="12949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ember Goal:  Early warning to save li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ccessful warning must be in time, understood, and actionable (e.g., Warning =&gt; Evacuat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you have a local threat (&lt; 30-45 min), Education       is priority.  People must 1. Act on Natural Warnings,        2. Self-Evacuate - do not wait for NTWC warni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TWC to issue Alert using pre-determined criteria.  Duty Staff know what to look for in PTWC produc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TWC can decide Alert Level using only Public Text product (e.g., map forecast height to Warning).         NTWC does NOT need to use all products (these add value, further detail)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7200" y="1294920"/>
            <a:ext cx="8305920" cy="53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2760" indent="-48276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 1, 2014 PTWC to discontinue issuing Warning, Watch, Information Bulletins to      PTWC countrie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, PTWC will issue Messages with  Tsunami Forecasts (est wave heights or amplitude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 by email only to Country TWF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FP/NTWC will be responsible for issuing Warning, Watch, Information Alert for its own country emerg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8160" indent="-447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8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3" name="TextBox 1"/>
          <p:cNvSpPr/>
          <p:nvPr/>
        </p:nvSpPr>
        <p:spPr>
          <a:xfrm>
            <a:off x="838080" y="4518000"/>
            <a:ext cx="748836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Laura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UNESCO/IOC – NOAA International Tsunami Information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ra.kong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Charles McCre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, US NOAA Pacific Tsunami Warn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les.mccreery@noaa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3348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untry NTWC tsunami event SOPs: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4" name="TextBox 3"/>
          <p:cNvSpPr/>
          <p:nvPr/>
        </p:nvSpPr>
        <p:spPr>
          <a:xfrm>
            <a:off x="152280" y="1219320"/>
            <a:ext cx="899172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4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Alert Criteria Tabl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PTWC Enhanced Products User’s Guide) Appendices VI, VIII) gives alert thresholds and Emergency Response 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4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Message template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Appendix VII) facilitates quick std responses.  Checklists remind Duty Staff during ev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gh-level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Communication Flow Chart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hows primary agencies / stakeholders of warning chain                              intl Tsunami Service Providers =&gt; Natl / Local Warning  and Emergency Authorities =&gt; Publ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 efforts develop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Timeline-driven SOPs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scribing Time, Who, What, How, and To who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4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Exercis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practice and improve TWC / TER S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Alert Criteria Table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49976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480960" indent="-48096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sholds are used to assign Alert Levels (Warning, Advisory, Watch, Inform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rt Levels correspond to country’s Forecast Maximum Coastal Wave Amplitude and/or earthquake magnitu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Response Actions correspond to Alert Leve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46040">
              <a:lnSpc>
                <a:spcPct val="100000"/>
              </a:lnSpc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44604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Box 1"/>
          <p:cNvSpPr/>
          <p:nvPr/>
        </p:nvSpPr>
        <p:spPr>
          <a:xfrm>
            <a:off x="380880" y="1219320"/>
            <a:ext cx="876312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may wish to further customize by assigning different thresholds for different source regions.      Two sit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 QUANTITATIVE PTWC FORECAST.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WC Information Statement or Threat Message within 10 min after M6.5+ earthquak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QUANTITATIVE PTWC FORECAST PRODUCT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WC Threat Message, ~30 min after large earthquake with tsunamigenic potent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 / Watch Alerts (1.0 m thresho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rning / Advisory / Watch Alerts (0.3 / 1.0 m threshol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"/>
          <p:cNvSpPr/>
          <p:nvPr/>
        </p:nvSpPr>
        <p:spPr>
          <a:xfrm>
            <a:off x="45720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  <a:ea typeface="Angsana New"/>
              </a:rPr>
              <a:t>Simple Criteria T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ert Criteria Tab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 + 10 min:  No PTWC Forec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Picture 1" descr="1_CRITERIA_TABLE_PTWC_NoForecast_corr.pdf"/>
          <p:cNvPicPr/>
          <p:nvPr/>
        </p:nvPicPr>
        <p:blipFill>
          <a:blip r:embed="rId1"/>
          <a:srcRect l="7170" t="7906" r="6248" b="14785"/>
          <a:stretch/>
        </p:blipFill>
        <p:spPr>
          <a:xfrm>
            <a:off x="-25560" y="1066680"/>
            <a:ext cx="9169560" cy="5791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ert Criteria Tab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 + 30 min:  Quantitative PTWC Forecast – 1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" descr="2A.CRITERIA_TABLE_PTWCforecast_WWI_corr.pdf"/>
          <p:cNvPicPr/>
          <p:nvPr/>
        </p:nvPicPr>
        <p:blipFill>
          <a:blip r:embed="rId1"/>
          <a:srcRect l="12140" t="23035" r="11487" b="32591"/>
          <a:stretch/>
        </p:blipFill>
        <p:spPr>
          <a:xfrm>
            <a:off x="-152280" y="1143000"/>
            <a:ext cx="9296280" cy="5715000"/>
          </a:xfrm>
          <a:prstGeom prst="rect">
            <a:avLst/>
          </a:prstGeom>
          <a:ln w="0">
            <a:noFill/>
          </a:ln>
        </p:spPr>
      </p:pic>
      <p:sp>
        <p:nvSpPr>
          <p:cNvPr id="1024" name="TextBox 2"/>
          <p:cNvSpPr/>
          <p:nvPr/>
        </p:nvSpPr>
        <p:spPr>
          <a:xfrm>
            <a:off x="11920680" y="32180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9296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ert Criteria Tab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 + 30 min:  Quantitative PTWC Forecast – 0.3 / 1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6" name="Picture 1" descr="2B.CRITERIA_TABLE_PTWCforecast_WAWI_corr.pdf"/>
          <p:cNvPicPr/>
          <p:nvPr/>
        </p:nvPicPr>
        <p:blipFill>
          <a:blip r:embed="rId1"/>
          <a:srcRect l="13103" t="13765" r="11172" b="29137"/>
          <a:stretch/>
        </p:blipFill>
        <p:spPr>
          <a:xfrm>
            <a:off x="0" y="1168560"/>
            <a:ext cx="914400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1"/>
          <p:cNvSpPr/>
          <p:nvPr/>
        </p:nvSpPr>
        <p:spPr>
          <a:xfrm>
            <a:off x="380880" y="1295280"/>
            <a:ext cx="861084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’s Guide – Appendix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ze NTWC and NDMO/DMO are authoritie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TWC or other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Templates for easy fill-in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automatically fill-in with incoming PTWC message).  Basic text does not change.                Duty Staff only need to fill in event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 Review option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utomated process or GUI used, need to make sure there are ‘REVIEW BEFORE SEND’ and ‘MANUAL ENTRY’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2"/>
          <p:cNvSpPr/>
          <p:nvPr/>
        </p:nvSpPr>
        <p:spPr>
          <a:xfrm>
            <a:off x="53352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  <a:ea typeface="Angsana New"/>
              </a:rPr>
              <a:t>Message Products for Alert Leve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16:15Z</dcterms:created>
  <dc:creator>Kelly</dc:creator>
  <dc:description/>
  <dc:language>en-US</dc:language>
  <cp:lastModifiedBy>Laura Kong</cp:lastModifiedBy>
  <cp:lastPrinted>2014-09-17T21:07:40Z</cp:lastPrinted>
  <dcterms:modified xsi:type="dcterms:W3CDTF">2014-09-18T14:37:28Z</dcterms:modified>
  <cp:revision>176</cp:revision>
  <dc:subject/>
  <dc:title>Slide 1</dc:title>
</cp:coreProperties>
</file>