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2C2F-8E92-4E30-A559-F2AA5C914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54D5-7A8E-443A-9C27-8D5355BD9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05A6-9168-4558-B49B-33F868C8B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6BB8-BC26-44D7-904C-15A8B0904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1B3E-17B9-48DF-BFFC-94B311265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436B-7176-43A9-9233-BE2A8EBA2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010A-7357-4E79-9FC4-037121D80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7108-8A2D-4FD6-8AF3-E2C32495F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521E-15D2-4916-9D88-A429D54DF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CCA2-13E7-41ED-B55D-CF11C841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F49E-CB67-4F38-9FF1-FAF1FA2F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28F0-504A-404C-93DB-9286D7195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1B08B-8ADB-485D-83EE-EE187931C6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file:///Ver%20este%20evento%20con%20GoogleMaps" TargetMode="External"/><Relationship Id="rId3" Type="http://schemas.openxmlformats.org/officeDocument/2006/relationships/hyperlink" Target="file:///Ver%20este%20evento%20con%20GoogleMaps" TargetMode="External"/><Relationship Id="rId4" Type="http://schemas.openxmlformats.org/officeDocument/2006/relationships/hyperlink" Target="file:///Ver%20este%20evento%20con%20GoogleMaps" TargetMode="External"/><Relationship Id="rId5" Type="http://schemas.openxmlformats.org/officeDocument/2006/relationships/hyperlink" Target="file:///Ver%20este%20evento%20con%20GoogleMaps" TargetMode="External"/><Relationship Id="rId6" Type="http://schemas.openxmlformats.org/officeDocument/2006/relationships/hyperlink" Target="file:///Ver%20este%20evento%20con%20GoogleMaps" TargetMode="External"/><Relationship Id="rId7" Type="http://schemas.openxmlformats.org/officeDocument/2006/relationships/hyperlink" Target="file:///Ver%20este%20evento%20con%20GoogleMaps" TargetMode="External"/><Relationship Id="rId8" Type="http://schemas.openxmlformats.org/officeDocument/2006/relationships/hyperlink" Target="file:///Ver%20este%20evento%20con%20GoogleMaps" TargetMode="External"/><Relationship Id="rId9" Type="http://schemas.openxmlformats.org/officeDocument/2006/relationships/hyperlink" Target="file:///Ver%20este%20evento%20con%20GoogleMaps" TargetMode="External"/><Relationship Id="rId10" Type="http://schemas.openxmlformats.org/officeDocument/2006/relationships/hyperlink" Target="file:///Ver%20este%20evento%20con%20GoogleMaps" TargetMode="External"/><Relationship Id="rId11" Type="http://schemas.openxmlformats.org/officeDocument/2006/relationships/hyperlink" Target="file:///Ver%20este%20evento%20con%20GoogleMaps" TargetMode="External"/><Relationship Id="rId12" Type="http://schemas.openxmlformats.org/officeDocument/2006/relationships/hyperlink" Target="file:///Ver%20este%20evento%20con%20GoogleMaps" TargetMode="External"/><Relationship Id="rId13" Type="http://schemas.openxmlformats.org/officeDocument/2006/relationships/hyperlink" Target="file:///Ver%20este%20evento%20con%20GoogleMaps" TargetMode="External"/><Relationship Id="rId14" Type="http://schemas.openxmlformats.org/officeDocument/2006/relationships/hyperlink" Target="file:///Ver%20este%20evento%20con%20GoogleMaps" TargetMode="External"/><Relationship Id="rId15" Type="http://schemas.openxmlformats.org/officeDocument/2006/relationships/hyperlink" Target="file:///Ver%20este%20evento%20con%20GoogleMaps" TargetMode="External"/><Relationship Id="rId16" Type="http://schemas.openxmlformats.org/officeDocument/2006/relationships/hyperlink" Target="file:///Ver%20este%20evento%20con%20GoogleMaps" TargetMode="External"/><Relationship Id="rId17" Type="http://schemas.openxmlformats.org/officeDocument/2006/relationships/hyperlink" Target="file:///Ver%20este%20evento%20con%20GoogleMaps" TargetMode="External"/><Relationship Id="rId1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75708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5.3 Central America Pacific Co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628640"/>
            <a:ext cx="8497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-sessional WG, Terms of Referen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assist the Central American countries in the improvement, development or implementation of their National Tsunami Warning and Mitigation System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To recommend to the Executive Secretary of CEPREDENAC (Center for Disaster Prevention in Central America) the implementation of a Steering Committee for the Regional Tsunami Warning System and Mitigation System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To facilitate Tsunami Hazard and Risk studies in the Central American Reg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To assist the countries which are not yet members of PTWS in their attempts to integrate IOC/PTW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Seismic Monitoring Network</a:t>
            </a:r>
            <a:br>
              <a:rPr sz="40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icarag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0" y="1844640"/>
            <a:ext cx="4537080" cy="37022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44360" y="1863720"/>
            <a:ext cx="4211640" cy="3714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4647600" y="5589720"/>
            <a:ext cx="416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On line recording of seismic bb s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With Earthworm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additionally 5-6 s.p. st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rom each CA countr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96520" y="5753160"/>
            <a:ext cx="34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Nicaraguan bb and s.p.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eismicity CA: Last 10 days</a:t>
            </a:r>
            <a:br>
              <a:rPr sz="44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www.ineter.gob.ni/geofisica/sis/monitor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-684360" y="1143000"/>
            <a:ext cx="5667480" cy="5715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932360" y="1197000"/>
            <a:ext cx="4211640" cy="39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07/09/19 04:17:23 12.77N 89.05W 20.0 3.3MC Frente a El Salva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07/09/19 02:22:12 14.99N 87.27W 1.0 3.5MC Hondu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07/09/18 20:13:01 15.00N 87.29W 4.0 3.9MC Hondu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07/09/18 17:55:28 11.87N 87.79W 18.6 3.5ML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Oceano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Pacífico de Nicaragu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07/09/18 15:18:34 12.62N 87.12W 153.6 3.8ML Chinandega-Cori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07/09/18 15:11:30 8.64N 83.03W 2.0 0.0 Costa 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07/09/18 09:54:12 8.61N 83.18W 8.2 3.0MC Costa 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07/09/18 09:40:00 8.91N 82.89W 13.4 2.9MC Costa 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07/09/18 09:09:06 8.71N 83.40W 13.3 2.9MC Costa 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07/09/18 07:45:09 8.88N 82.88W 5.9 2.8MC Costa 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07/09/18 01:30:26 8.90N 82.63W 22.4 2.7MC Sismo regional o leja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07/09/17 22:40:24 11.31N 86.37W 42.1 1.4ML Frente a El Astill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07/09/17 16:40:46 12.21N 87.27W 46.7 2.9ML Frente a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Poneloya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No regional T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ro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Nicaragua / El Salvador National TW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o act as interim regional TW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Tsunami Hazard 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63360" y="882720"/>
            <a:ext cx="6784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1500 – actuality, 49 tsunamis 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2 - Nicaraguan Pacific coast tsuna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2502000"/>
            <a:ext cx="4859280" cy="315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003640" y="2521080"/>
            <a:ext cx="4140360" cy="315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5273640" y="6548400"/>
            <a:ext cx="387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Sources: Molina, 1994, Fernández et al, 199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21640" y="450360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sunam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cific Co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82520" y="4699080"/>
            <a:ext cx="158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sunamis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tlantic Co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TWS member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uatemala, Costa Rica, Nicaragua, El Salvador are me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onduras has sent request to IOC,   via UNESCO represent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nama is in the process to send letter to IOC, via Ministry of Foreign Affai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sunami Hazard &amp; Risk Stud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icaragua, El Salvador, Costa Ri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- see National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- variety of initiativ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icaragua most advan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uatemal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nama, Hondur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- discu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Tsunami Modelling</a:t>
            </a:r>
            <a:br>
              <a:rPr sz="40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xample: San Juan del Sur, Nicarag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85840" y="1844640"/>
            <a:ext cx="8607240" cy="4419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812160" y="6329520"/>
            <a:ext cx="30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imulation of 1992 Tsun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296680" y="6308640"/>
            <a:ext cx="30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imulation of larger Tsun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Steering Committee for Regional TWS</a:t>
            </a:r>
            <a:br>
              <a:rPr sz="36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EPREDEN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veral discussions but finally not success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Tsunami Hazard and evacuation routes</a:t>
            </a:r>
            <a:br>
              <a:rPr sz="36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asachapa, Nicarag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64 Imagen" descr="Mapa stunami.jpg"/>
          <p:cNvPicPr/>
          <p:nvPr/>
        </p:nvPicPr>
        <p:blipFill>
          <a:blip r:embed="rId1">
            <a:lum bright="8000"/>
          </a:blip>
          <a:stretch/>
        </p:blipFill>
        <p:spPr>
          <a:xfrm>
            <a:off x="749160" y="1197000"/>
            <a:ext cx="7710480" cy="56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Seismic stations 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116000" y="1314360"/>
            <a:ext cx="669600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National T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icarag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Salv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697280" y="1486080"/>
            <a:ext cx="3510000" cy="467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0" name=""/>
          <p:cNvSpPr/>
          <p:nvPr/>
        </p:nvSpPr>
        <p:spPr>
          <a:xfrm>
            <a:off x="4545000" y="6329520"/>
            <a:ext cx="39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ismic data center, TWC, Mana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9T14:20:02Z</dcterms:created>
  <dc:creator>wil</dc:creator>
  <dc:description/>
  <dc:language>en-US</dc:language>
  <cp:lastModifiedBy>wil</cp:lastModifiedBy>
  <dcterms:modified xsi:type="dcterms:W3CDTF">2007-09-19T17:25:11Z</dcterms:modified>
  <cp:revision>10</cp:revision>
  <dc:subject/>
  <dc:title>5.3 Central America Pacific Coast</dc:title>
</cp:coreProperties>
</file>