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</p:sldIdLst>
  <p:sldSz cx="9907588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4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Img"/>
          </p:nvPr>
        </p:nvSpPr>
        <p:spPr>
          <a:xfrm>
            <a:off x="1057320" y="718920"/>
            <a:ext cx="5200560" cy="36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Eras Bold ITC"/>
              </a:rPr>
              <a:t>Click to move the slide</a:t>
            </a: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ftr" idx="4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 type="sldNum" idx="4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FA56-AE38-4482-BA5F-C603C9697967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F657-992B-40C7-8E65-C2CA1CFB20BF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204160" cy="36036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AD8A-5F15-4C89-B1E0-B040F554BD6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204160" cy="36036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057320" y="720720"/>
            <a:ext cx="5200560" cy="36003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ed slide.  Click to start.  Click after "TWCs" appears.  Click again after "Stage 1" app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0C2F-C911-434D-80A2-07A168B60F9E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9736-5E16-4BA3-883F-5330438B82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D608-D119-441B-9CFE-821EA959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9C4BA-2EBE-484B-B8BB-898C5256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CC3F5-3583-45EB-9A91-52BD10FD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BF197-803F-4828-A906-425DC733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260E1-8A82-4D4D-A1B8-371B38E2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05456-44E3-455E-8877-75429268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87805-0DAC-48E2-84DF-994F9C68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B6DFC-1D6E-46F4-97DB-A5AC1ABF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8194A-57B9-48F8-BD63-355785DD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A3FC8-B4D0-49C0-9AC0-0E1F24D5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B2D9D-D09C-4BE2-84A5-C16D695F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89F8-58E0-43D1-8234-31E156DE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0CFD4-1FFA-44A5-A064-48101680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A9EDF-ADDE-438D-AC0D-491AFA2A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7236C-B2B3-45AE-A013-9E5F9A95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4205D-CC7B-4153-8A96-E6F3FFA5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359A1-E0CC-44EB-97D6-E0F1455C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6F51A-5579-47CB-8127-933C8F1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7B7FF-A4FE-4108-9CDE-CE674D80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1FDBA-0D91-4F03-ABD6-92ABDBE0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B5AD8-77DC-4B7C-817E-3B622E07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88632-C8AC-49AB-B916-163E3101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5C23D-E19B-4A63-BAD5-D9CE69141A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80613-9BCE-46B2-898D-4419C254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A7899-C798-4A68-A93D-1BE975FA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513D5-F92E-4746-8957-B0BE95FA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44B3F-DFF7-43DC-B905-5B81B07F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CA6D4-1343-46B3-8543-DB9A297F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9E517-E133-4644-A5C4-C857BDD7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D7FDD-BB86-4CFB-B29B-DA0D4675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CD210-E028-4DE6-85D0-E8B99969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7C494-A096-42B4-897D-F010103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742FD-0365-4AC1-AE47-0BC85F70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E73B8-E86A-4C2A-986F-12C32E2BF1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050C8-CE0B-49C5-982F-EFD59AD1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FD934-2747-4164-BC1E-C2AE0FE6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2AE9A-4734-40C5-9E7D-4F49A6AF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1346A-6E18-44C1-8A17-2438D18E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836B0-FCE7-42B4-9705-6B0A2FFC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74F95-6438-454B-902F-F179D778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3EF2D-E4D3-47E0-9101-7BAD8C6F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01601-3B65-4A22-86B2-DE1CDF01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C204A-4EB7-49E8-A7FE-DFE84860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1B0F9-3F67-41EF-BDFA-BF26D0EF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A2B6B-105E-4DE6-9D94-64176D54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3983F-6027-427D-9E01-CD77AAD7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2DD0F-533B-420C-851D-7E871A84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7F56B-78B6-41C2-9F38-703B0C16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D52BE-14EF-437A-A231-7E56BF67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5F303-3B4A-43AF-92D1-AC3580C7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AD0AE-A5CA-43BA-B00D-BEDE5F03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DB8B3-8990-40E2-BD1A-59F5AD9A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2358E-A9E6-4745-ABFF-70912760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DF536-E582-4056-9EC2-26AA853F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FFB4F-49A0-4EF2-935F-D22988A9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F6EAC-93EF-43E9-9A15-5FC883DA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B8687-750D-422F-81D1-6C3A59B2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869F0-FDEB-46DC-A363-50EE05C6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A3D7B-2935-4077-8482-3E44D3A6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ADF27-10C2-4404-B311-CFAF7218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2B8AF-2D01-47C5-A51E-3F9C482C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1A0DB-6240-4A92-B754-F82F6E07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51D92-107A-4979-A4FF-57DEAAD4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3BFB4-D327-42D1-BDC7-DE37F1D2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101C9-A965-403F-BC13-41ACF51E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44533-4CFF-4DFD-A376-8102EB39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0371F-FBC0-429C-8742-7EA31350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A83BE-C39A-4092-BD9D-8B71306F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6C97F-9A8F-410A-8700-3F531A41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A5AEB-C039-4EAA-B2F3-52F1CE53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678B7-55E8-43EB-8BCF-75C7DD49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2C497-A96B-4946-900F-7FE077B2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0F715-8164-4F43-85DB-300C3DE7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EEF74-DEC6-48F2-AFEF-1BBA7B81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A19F4-D73F-442B-8780-6828E715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47068-F926-42AC-8794-7C4B7C40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C5B06-3578-46DE-AF82-B83D424F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37832-4189-4310-9EA7-13F133BC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FA638-50B1-4183-BC31-8CD9DD30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BAF832-43C2-48B2-B101-7884B8C1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0D2F8F-7D1F-4ABF-9EE6-8B9CC47E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6E1956-CFCA-4388-98B2-E9319DC7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A1162-7519-42F5-8DF9-B2202C55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4C7DD-E5B0-4348-A5B1-848DA65E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4A1B5-56C5-43EE-BD11-2B245BF2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0B7A2-FA19-4B2A-94B8-F775253E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4D9E7-15A9-457C-B946-86F8745B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EE817-CF55-4631-92C4-93EB0245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2EF14-2CED-4C54-952D-66C7B004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F7800F-C928-4AA3-A29C-4DD05572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BCB14-6748-48B9-B26E-6313AF01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57DD-B857-4649-A2EA-9E252A8A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FE8CD-1BE9-48DF-9E9D-A1AC2637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4F6EC-3C15-412A-B5D2-1AA83D0B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476E4-C33C-40AE-9868-D6F74532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C93ED-E7AB-4491-B147-11E396B6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A2DA1-17C7-42EF-9C59-9FCD287EDF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094E7-5A11-47E7-A180-B22AE87F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3AF8A-B733-4EC1-ABE2-FC02D06A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B4527-EC37-42AA-A68B-1BFC9BFD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7DE763-A871-43F2-A0CD-9D11736F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BF7B6B-7564-4581-BE02-D75984DF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EF7B6-739B-4C8F-805B-E1DE7953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3CC64B-3070-4FCF-8C42-6C122A5F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0D357-4688-4D1E-970E-3D26FE10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2F859D-5E4D-403E-AB2E-D5899A5E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9F44EB-4798-4B9E-B29A-8BDC97F7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EBED09-314A-4B42-8AA6-ADBBCA9D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204A62-C8F2-49AE-BD82-0DEC84BB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05523-8890-4BD4-9D64-FAC350C4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6C933-F25A-4C74-A5C4-4FBAF8BA26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32B2-FA8B-4BC4-A305-E3F22483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B3FE4-C14E-4B4B-A6DE-6E1FB00F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A77D-ED15-40F8-AE93-3D68472D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9DF7-FA58-4C9D-A706-9AB84E2D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664D7-B49D-4905-B41A-A205790D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CA0C0-72BF-4C4C-B825-A06F7ED4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17525-71DA-44B1-A5E4-CD2F6111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851D0-C41C-4D19-B980-12ECA13B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E00FA-9532-4323-82C5-56205A2B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96C6-F585-403B-9988-85DC6202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8B700-DEE2-4B9D-AAB5-F1F3D8AA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A2299-CF5E-45C5-A0CC-8708FCE9B9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B1DE2-8BF6-4145-9236-07BAD052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A63E-9C12-4C9A-8400-62034D9C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C655A-9D3F-455D-A496-988BC1DF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53D96-CA6B-4F88-9A84-CFBD9F7F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C57B9-027A-4852-8BC9-1563788F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A6D5E-0341-413F-9ABF-2C97FE27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FEFD-714A-4C54-9106-DB18FF08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43CF8-EA0C-4CAA-AE64-B8BA58E5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AFCCA-6394-4062-B8E6-EC636E67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9E67-8CAB-45C5-AD15-E4A9703C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8E4E2-52CD-45F6-832E-E024CBE0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C5A8E-03B3-418D-8B0E-189B6417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D919-62A6-457D-8DDA-71071848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89E8-A6D8-4616-A4AB-1B674D92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7F5B-A0CE-4BE2-9F5C-F836192B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C8F58-BF4B-4FDC-85AD-8692DA74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45E50-C856-47E8-9352-D0A0A384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1EB2-60D5-4000-BEC9-71A12EBB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4A653-CA10-4474-85C5-AA48C486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23B70-ED72-4C83-B126-B43C551A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70BB6-24AD-4B71-AC3F-CFF7AA61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BC198-79E3-48B4-8C2D-52194380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6019-0DFD-4358-9A65-3BC11531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C861-E0B6-4A06-A199-9D362E0D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DC936-A72A-478E-AE03-5AA34717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B9E57-BF5E-46B3-AF40-3E5BD39B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26C54-F26B-4CC4-8A09-51C0157A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716D4-F4E7-4407-BD30-4FABF902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61511-298C-4936-8735-72BC0856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1DE88-1810-4E68-A929-35ACE05D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4FA81-B07E-4022-9DF6-5EB0F061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D5864-72C4-4571-988E-14CD636A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987BC-C347-441D-A4F9-EE46EA61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CF481-4D1B-4B5D-8DE7-E34523F7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CE92-B047-4615-9423-E307456C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3E4E6-7926-46D5-A22F-52E20C9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3B81A-FDC0-42EA-8A46-9D0267E2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95649-F862-486C-AD4A-C8026D07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119F7-8CF2-4070-9749-75E69E1F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56867-BFFC-46F8-9BFE-4D920E1B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BF3BB-D25C-41FB-A07F-30DB0797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82316-2C72-4F6C-9218-BACD281D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27FC0-F2D5-436C-A86A-955EC161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DB22A-D12E-4BF2-9C9C-15F719B5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1B90C-FD2B-4039-84FD-712C1031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1F6A-440D-46A1-8468-E674B6B0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330120" y="152280"/>
            <a:ext cx="90806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1B876-EC55-45A6-8DDB-40FCF293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7FF34-5C00-4FF1-BF5D-907B803A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8528A-0594-42B9-8293-A0A129D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9CD56-9F97-47B6-BB0F-AA16B889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7320" y="3696840"/>
            <a:ext cx="932796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08123-1BC0-4436-8D42-D3E714A3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27040" y="99036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732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27040" y="3696840"/>
            <a:ext cx="455184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02F82-36D9-4DD4-AC00-837B9A40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40128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55240" y="99036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732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40128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555240" y="3696840"/>
            <a:ext cx="3003480" cy="2471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5E436-436E-40D1-B2C4-BA8CA926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A2336-E922-4A40-983D-34A6AFFE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4E59A-6DF3-4BD8-928E-B1D4BED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A16BD-C82F-438A-8C1A-B2E91558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wave"/>
          <p:cNvPicPr/>
          <p:nvPr/>
        </p:nvPicPr>
        <p:blipFill>
          <a:blip r:embed="rId2"/>
          <a:srcRect l="16875" t="28125" r="9562" b="2813"/>
          <a:stretch/>
        </p:blipFill>
        <p:spPr>
          <a:xfrm>
            <a:off x="0" y="0"/>
            <a:ext cx="9912240" cy="6875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Eras Bold ITC"/>
              </a:rPr>
              <a:t>Click to edit the title text format</a:t>
            </a: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7120" indent="-357120">
              <a:spcBef>
                <a:spcPts val="624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3280" indent="-298440">
              <a:spcBef>
                <a:spcPts val="624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89080" indent="-238320">
              <a:spcBef>
                <a:spcPts val="624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63560" indent="-237960">
              <a:spcBef>
                <a:spcPts val="624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38400" indent="-236520">
              <a:spcBef>
                <a:spcPts val="624"/>
              </a:spcBef>
              <a:buClr>
                <a:srgbClr val="000066"/>
              </a:buClr>
              <a:buFont typeface="Arial Unicode MS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5" marL="2138400" indent="-236520">
              <a:spcBef>
                <a:spcPts val="624"/>
              </a:spcBef>
              <a:buClr>
                <a:srgbClr val="000000"/>
              </a:buClr>
              <a:buFont typeface="Arial Unicode MS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6" marL="2138400" indent="-236520">
              <a:spcBef>
                <a:spcPts val="624"/>
              </a:spcBef>
              <a:buClr>
                <a:srgbClr val="000000"/>
              </a:buClr>
              <a:buFont typeface="Arial Unicode MS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4C89-14E4-4891-A4C7-6E8257FEDE8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30120" y="838080"/>
            <a:ext cx="9080640" cy="76320"/>
          </a:xfrm>
          <a:prstGeom prst="rect">
            <a:avLst/>
          </a:prstGeom>
          <a:gradFill rotWithShape="0">
            <a:gsLst>
              <a:gs pos="0">
                <a:srgbClr val="3333cc">
                  <a:alpha val="71372"/>
                </a:srgbClr>
              </a:gs>
              <a:gs pos="50000">
                <a:srgbClr val="00cc99">
                  <a:alpha val="75294"/>
                </a:srgbClr>
              </a:gs>
              <a:gs pos="100000">
                <a:srgbClr val="3333cc">
                  <a:alpha val="7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E131-8F48-4EC8-BE86-51496F8113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DE29-44B7-4AE9-A849-EA1E69E8049D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C270-414C-4899-8276-B75E29FAE3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4E69-AB2E-4EC9-A4AB-2526783EC444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3A02-8E33-4CBA-9F93-7CB40C3708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1EC8-3CAA-4E8D-9398-9E722A0CB968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6001-F7F2-4613-B8E3-F69C68C0C8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A7C0-4784-4072-8A72-614510E9B610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3A82-D3EF-44E8-9D4B-295F8DE813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0958-1575-42AD-8BDF-001F103195DE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A519-2985-4B0B-8609-4F1B505FA3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F632-3AA1-4C09-A308-0EA4480887EC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wave"/>
          <p:cNvPicPr/>
          <p:nvPr/>
        </p:nvPicPr>
        <p:blipFill>
          <a:blip r:embed="rId2"/>
          <a:srcRect l="16875" t="28125" r="9562" b="2813"/>
          <a:stretch/>
        </p:blipFill>
        <p:spPr>
          <a:xfrm>
            <a:off x="0" y="0"/>
            <a:ext cx="9912240" cy="687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Eras Bold ITC"/>
              </a:rPr>
              <a:t>Click to edit the title text format</a:t>
            </a: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7120" indent="-357120">
              <a:spcBef>
                <a:spcPts val="624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3280" indent="-298440">
              <a:spcBef>
                <a:spcPts val="624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89080" indent="-238320">
              <a:spcBef>
                <a:spcPts val="624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63560" indent="-237960">
              <a:spcBef>
                <a:spcPts val="624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38400" indent="-236520">
              <a:spcBef>
                <a:spcPts val="624"/>
              </a:spcBef>
              <a:buClr>
                <a:srgbClr val="000066"/>
              </a:buClr>
              <a:buFont typeface="Arial Unicode MS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5" marL="2138400" indent="-236520">
              <a:spcBef>
                <a:spcPts val="624"/>
              </a:spcBef>
              <a:buClr>
                <a:srgbClr val="000000"/>
              </a:buClr>
              <a:buFont typeface="Arial Unicode MS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6" marL="2138400" indent="-236520">
              <a:spcBef>
                <a:spcPts val="624"/>
              </a:spcBef>
              <a:buClr>
                <a:srgbClr val="000000"/>
              </a:buClr>
              <a:buFont typeface="Arial Unicode MS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C16F-7AA9-4DC3-9D47-3A89AC37163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30120" y="838080"/>
            <a:ext cx="9080640" cy="76320"/>
          </a:xfrm>
          <a:prstGeom prst="rect">
            <a:avLst/>
          </a:prstGeom>
          <a:gradFill rotWithShape="0">
            <a:gsLst>
              <a:gs pos="0">
                <a:srgbClr val="3333cc">
                  <a:alpha val="71372"/>
                </a:srgbClr>
              </a:gs>
              <a:gs pos="50000">
                <a:srgbClr val="00cc99">
                  <a:alpha val="75294"/>
                </a:srgbClr>
              </a:gs>
              <a:gs pos="100000">
                <a:srgbClr val="3333cc">
                  <a:alpha val="7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49582-FAD6-4047-9F9B-324B4F99B0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4ED55-D2E2-4CCE-A232-1C3D87F6CD76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wave"/>
          <p:cNvPicPr/>
          <p:nvPr/>
        </p:nvPicPr>
        <p:blipFill>
          <a:blip r:embed="rId2"/>
          <a:srcRect l="16875" t="28125" r="9562" b="2813"/>
          <a:stretch/>
        </p:blipFill>
        <p:spPr>
          <a:xfrm>
            <a:off x="0" y="0"/>
            <a:ext cx="9912240" cy="6875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330120" y="838080"/>
            <a:ext cx="9080640" cy="76320"/>
          </a:xfrm>
          <a:prstGeom prst="rect">
            <a:avLst/>
          </a:prstGeom>
          <a:gradFill rotWithShape="0">
            <a:gsLst>
              <a:gs pos="0">
                <a:srgbClr val="3333cc">
                  <a:alpha val="71372"/>
                </a:srgbClr>
              </a:gs>
              <a:gs pos="50000">
                <a:srgbClr val="00cc99">
                  <a:alpha val="75294"/>
                </a:srgbClr>
              </a:gs>
              <a:gs pos="100000">
                <a:srgbClr val="3333cc">
                  <a:alpha val="7137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Eras Bold ITC"/>
              </a:rPr>
              <a:t>Click to edit the title text format</a:t>
            </a: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7120" indent="-357120">
              <a:spcBef>
                <a:spcPts val="624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3280" indent="-298440">
              <a:spcBef>
                <a:spcPts val="624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89080" indent="-238320">
              <a:spcBef>
                <a:spcPts val="624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63560" indent="-237960">
              <a:spcBef>
                <a:spcPts val="624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4" marL="2138400" indent="-236520">
              <a:spcBef>
                <a:spcPts val="624"/>
              </a:spcBef>
              <a:buClr>
                <a:srgbClr val="000066"/>
              </a:buClr>
              <a:buFont typeface="Arial Unicode MS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5" marL="2138400" indent="-236520">
              <a:spcBef>
                <a:spcPts val="624"/>
              </a:spcBef>
              <a:buClr>
                <a:srgbClr val="000000"/>
              </a:buClr>
              <a:buFont typeface="Arial Unicode MS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  <a:p>
            <a:pPr lvl="6" marL="2138400" indent="-236520">
              <a:spcBef>
                <a:spcPts val="624"/>
              </a:spcBef>
              <a:buClr>
                <a:srgbClr val="000000"/>
              </a:buClr>
              <a:buFont typeface="Arial Unicode MS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8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F7A-17F6-4279-A272-C85E3FA2DA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8A5F-35D5-4734-919A-CA2322EED2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2EB9-120A-4CFC-947F-9B5323C37D3B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B25-929A-4E4C-B7DC-66E875299F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C716-41E0-4752-AFE4-FC1265B669B8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C3F4-8F29-4BC9-A79A-ED778C96EC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B72B-BA0F-4858-BCD5-FE43B01389D1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6EF0-B4E7-42BC-AFF8-ADEFF739C2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FF97-77D2-4A68-B9BB-5A985118771B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4920" y="1327320"/>
            <a:ext cx="983628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f81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FA32-F8E3-419B-8540-98CED0C8A8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7597800" y="6517800"/>
            <a:ext cx="2311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5971-C2E3-4BA2-BECA-1A8A9719CECC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9"/>
          <p:cNvSpPr/>
          <p:nvPr/>
        </p:nvSpPr>
        <p:spPr>
          <a:xfrm>
            <a:off x="247680" y="1969920"/>
            <a:ext cx="1918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609480" y="1828800"/>
            <a:ext cx="850284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  <a:ea typeface="Arial Unicode MS"/>
              </a:rPr>
              <a:t>Agenda 4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  <a:ea typeface="Arial Unicode MS"/>
              </a:rPr>
              <a:t>PTWS Exercise Task Tea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7"/>
          <p:cNvSpPr/>
          <p:nvPr/>
        </p:nvSpPr>
        <p:spPr>
          <a:xfrm flipH="1">
            <a:off x="824760" y="3809880"/>
            <a:ext cx="8258040" cy="84240"/>
          </a:xfrm>
          <a:custGeom>
            <a:avLst/>
            <a:gdLst>
              <a:gd name="textAreaLeft" fmla="*/ -360 w 8258040"/>
              <a:gd name="textAreaRight" fmla="*/ 8258040 w 82580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4127400" y="30492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ICG/PTWS-XX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Beijing, China , 24-27 Ma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8" descr="UNESCO-IOC_logo"/>
          <p:cNvPicPr/>
          <p:nvPr/>
        </p:nvPicPr>
        <p:blipFill>
          <a:blip r:embed="rId1"/>
          <a:srcRect l="0" t="0" r="0" b="39757"/>
          <a:stretch/>
        </p:blipFill>
        <p:spPr>
          <a:xfrm>
            <a:off x="533520" y="228600"/>
            <a:ext cx="2466720" cy="13399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NOAAlogoclr-[Converted].jpg"/>
          <p:cNvPicPr/>
          <p:nvPr/>
        </p:nvPicPr>
        <p:blipFill>
          <a:blip r:embed="rId2"/>
          <a:stretch/>
        </p:blipFill>
        <p:spPr>
          <a:xfrm>
            <a:off x="3124080" y="380880"/>
            <a:ext cx="727200" cy="6955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9" descr="ITIC"/>
          <p:cNvPicPr/>
          <p:nvPr/>
        </p:nvPicPr>
        <p:blipFill>
          <a:blip r:embed="rId3"/>
          <a:stretch/>
        </p:blipFill>
        <p:spPr>
          <a:xfrm>
            <a:off x="4127400" y="380880"/>
            <a:ext cx="71604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2"/>
          <p:cNvSpPr/>
          <p:nvPr/>
        </p:nvSpPr>
        <p:spPr>
          <a:xfrm>
            <a:off x="825480" y="4495680"/>
            <a:ext cx="83376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Jo Guard, MDCEM, N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ra Kong, I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30120" y="151920"/>
            <a:ext cx="9080640" cy="68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Eras Bold ITC"/>
              </a:rPr>
              <a:t>PacWave11 - Scenarios</a:t>
            </a:r>
            <a:endParaRPr b="0" lang="en-US" sz="36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228600" y="1142640"/>
            <a:ext cx="932832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he scenari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Kamchatka (Kuril-Kamchatka Trench)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Ryukyu Islands (Nansei-Shoto Trench)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Philippines - South China Sea (Manila Trench)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Philippines - Pacific Ocean (Philippines Trench)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Vanuatu (New Hebrides Trench)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Northern Chile (Peru-Chile Trench)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Ecuador (Colombia – Ecuador Trench)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Central America (Middle America Trench)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Aleutian Islands (Aleutian Trench)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624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6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5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9677160" cy="91440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Eras Bold ITC"/>
              </a:rPr>
              <a:t>PacWave11 Scenarios –                                   Example Preliminary Forecast Models (RIFT)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pic>
        <p:nvPicPr>
          <p:cNvPr id="731" name="Content Placeholder 3" descr="Screen shot 2011-05-25 at 3.23.20 PM.png"/>
          <p:cNvPicPr/>
          <p:nvPr/>
        </p:nvPicPr>
        <p:blipFill>
          <a:blip r:embed="rId1"/>
          <a:srcRect l="2145" t="0" r="2145" b="0"/>
          <a:stretch/>
        </p:blipFill>
        <p:spPr>
          <a:xfrm>
            <a:off x="166680" y="1066680"/>
            <a:ext cx="9739440" cy="5410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10134720" cy="609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Eras Bold ITC"/>
              </a:rPr>
              <a:t>PacWave11 – Conduct: Start, Messages, Guidance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ime of Event: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SW Pacific requested during the day. 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Other regions provide input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International TWC Messag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Only 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 Unicode MS"/>
              </a:rPr>
              <a:t>st </a:t>
            </a: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 Exercise Start message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73280" indent="-298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All available on secure web site (save money)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marL="357120" indent="-3571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Exercise Manual - </a:t>
            </a:r>
            <a:r>
              <a:rPr b="1" lang="en-US" sz="2800" spc="-1" strike="noStrike">
                <a:solidFill>
                  <a:srgbClr val="000090"/>
                </a:solidFill>
                <a:latin typeface="Arial Unicode MS"/>
              </a:rPr>
              <a:t>available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9 August </a:t>
            </a:r>
            <a:r>
              <a:rPr b="1" lang="en-US" sz="2800" spc="-1" strike="noStrike">
                <a:solidFill>
                  <a:srgbClr val="000090"/>
                </a:solidFill>
                <a:latin typeface="Arial Unicode MS"/>
              </a:rPr>
              <a:t>with detai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57120" indent="-3571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How to Plan, Conduct, and Evaluate Tsunami Exercise </a:t>
            </a:r>
            <a:r>
              <a:rPr b="1" lang="en-US" sz="2800" spc="-1" strike="noStrike">
                <a:solidFill>
                  <a:srgbClr val="000090"/>
                </a:solidFill>
                <a:latin typeface="Arial Unicode MS"/>
              </a:rPr>
              <a:t>– available </a:t>
            </a: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July 2011 </a:t>
            </a:r>
            <a:r>
              <a:rPr b="1" lang="en-US" sz="2800" spc="-1" strike="noStrike">
                <a:solidFill>
                  <a:srgbClr val="000090"/>
                </a:solidFill>
                <a:latin typeface="Arial Unicode MS"/>
              </a:rPr>
              <a:t>– use for training and briefing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609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Eras Bold ITC"/>
              </a:rPr>
              <a:t>Conduct – Manual and Guidance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304560" y="1066320"/>
            <a:ext cx="9372600" cy="1676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83000"/>
          </a:bodyPr>
          <a:p>
            <a:pPr marL="296280" indent="-29628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Exercise Manual – </a:t>
            </a:r>
            <a:r>
              <a:rPr b="1" lang="en-US" sz="2800" spc="-1" strike="noStrike">
                <a:solidFill>
                  <a:srgbClr val="000090"/>
                </a:solidFill>
                <a:latin typeface="Arial Unicode MS"/>
              </a:rPr>
              <a:t>available 9 August with detail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96280" indent="-296280">
              <a:spcBef>
                <a:spcPts val="2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296280" indent="-29628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How to Plan, Conduct, and Evaluate Tsunami Exercise                                   </a:t>
            </a:r>
            <a:r>
              <a:rPr b="1" lang="en-US" sz="2800" spc="-1" strike="noStrike">
                <a:solidFill>
                  <a:srgbClr val="000090"/>
                </a:solidFill>
                <a:latin typeface="Arial Unicode MS"/>
              </a:rPr>
              <a:t>available July 2011 use for training and briefing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96280" indent="-296280">
              <a:spcBef>
                <a:spcPts val="700"/>
              </a:spcBef>
              <a:buClr>
                <a:srgbClr val="00009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96280" indent="-296280">
              <a:spcBef>
                <a:spcPts val="700"/>
              </a:spcBef>
              <a:buClr>
                <a:srgbClr val="00009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96280" indent="-296280">
              <a:spcBef>
                <a:spcPts val="700"/>
              </a:spcBef>
              <a:buClr>
                <a:srgbClr val="00009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736" name="Picture 1" descr="Screen shot 2011-05-25 at 3.26.08 PM.png"/>
          <p:cNvPicPr/>
          <p:nvPr/>
        </p:nvPicPr>
        <p:blipFill>
          <a:blip r:embed="rId1"/>
          <a:stretch/>
        </p:blipFill>
        <p:spPr>
          <a:xfrm>
            <a:off x="1752480" y="3048120"/>
            <a:ext cx="2587680" cy="3433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5" descr=""/>
          <p:cNvPicPr/>
          <p:nvPr/>
        </p:nvPicPr>
        <p:blipFill>
          <a:blip r:embed="rId2"/>
          <a:stretch/>
        </p:blipFill>
        <p:spPr>
          <a:xfrm>
            <a:off x="4952880" y="3048120"/>
            <a:ext cx="2849760" cy="327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30120" y="152280"/>
            <a:ext cx="9080640" cy="609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Eras Bold ITC"/>
              </a:rPr>
              <a:t>Conduct – Evaluation, TOWS, Training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51920" y="990360"/>
            <a:ext cx="96584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93000"/>
          </a:bodyPr>
          <a:p>
            <a:pPr marL="331920" indent="-3319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Post-Exercise Evalu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Focus on plans, policies, procedures, assessment capabilities, communication, resources and inter-agency/inter-jurisdictional relationships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Aligned with PTWS MTS and its activities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marL="331920" indent="-3319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Consistency Globally for Exerci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IOWave11 – same methodology and questionnaire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Next CaribeEWS?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PacWave11 briefings and training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On request – possible partnered trainings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ITP-Hawaii 2011 (22 Aug -2 Sept) – IOC CL early June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371240" y="2590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Eras Bold ITC"/>
              </a:rPr>
              <a:t>Questions - Feedback</a:t>
            </a:r>
            <a:endParaRPr b="0" lang="en-US" sz="4800" spc="-1" strike="noStrike">
              <a:solidFill>
                <a:srgbClr val="000066"/>
              </a:solidFill>
              <a:latin typeface="Eras Bold ITC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825480" y="4495680"/>
            <a:ext cx="833760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ura K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ir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national Tsunami Information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9"/>
          <p:cNvSpPr/>
          <p:nvPr/>
        </p:nvSpPr>
        <p:spPr>
          <a:xfrm>
            <a:off x="247680" y="1969920"/>
            <a:ext cx="1918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16"/>
          <p:cNvSpPr/>
          <p:nvPr/>
        </p:nvSpPr>
        <p:spPr>
          <a:xfrm>
            <a:off x="577800" y="2438280"/>
            <a:ext cx="850284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  <a:ea typeface="Arial Unicode MS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7"/>
          <p:cNvSpPr/>
          <p:nvPr/>
        </p:nvSpPr>
        <p:spPr>
          <a:xfrm flipH="1">
            <a:off x="824760" y="3809880"/>
            <a:ext cx="8258040" cy="84240"/>
          </a:xfrm>
          <a:custGeom>
            <a:avLst/>
            <a:gdLst>
              <a:gd name="textAreaLeft" fmla="*/ -360 w 8258040"/>
              <a:gd name="textAreaRight" fmla="*/ 8258040 w 82580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4127400" y="30492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ICG/PTWS-XX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Beijing, China , 24-27 May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8" descr="UNESCO-IOC_logo"/>
          <p:cNvPicPr/>
          <p:nvPr/>
        </p:nvPicPr>
        <p:blipFill>
          <a:blip r:embed="rId1"/>
          <a:srcRect l="0" t="0" r="0" b="39757"/>
          <a:stretch/>
        </p:blipFill>
        <p:spPr>
          <a:xfrm>
            <a:off x="533520" y="228600"/>
            <a:ext cx="2466720" cy="133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9080640" cy="1218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Eras Bold ITC"/>
              </a:rPr>
              <a:t>PTWS Exercise Task Team –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Eras Bold ITC"/>
              </a:rPr>
              <a:t>Terms of Reference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6840" y="1523880"/>
            <a:ext cx="9296280" cy="5181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i)   Review the PACWAVE08 evaluation repor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ii)  Identify lessons learned from PACWAVE08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(iii) Design and carry out a third end-to-end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cific-wide exerci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191966"/>
                </a:solidFill>
                <a:latin typeface="Arial Unicode MS"/>
              </a:rPr>
              <a:t>Members: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TWC, JMA NWPTAC, France, Indonesia, New Zealand (GNS, MCDEM), Nicaragua, Papua New Guinea Philippines, Russian Federation, Southeast Pacific representative (TBD?), PTWS Secretariat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30120" y="151920"/>
            <a:ext cx="908064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Eras Bold ITC"/>
              </a:rPr>
              <a:t>PacWave08 Lessons Learned for PacWave11 (1/4)</a:t>
            </a: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96000"/>
          </a:bodyPr>
          <a:p>
            <a:pPr marL="342720" indent="-3427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Tsunami Warning Focal Point contact dat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888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Issue:  TWFP contact information incorrect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39888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=&gt; Countries regularly review / confirm to IOC 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marL="342720" indent="-3427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Conduct exercises in real tim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888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Issue:  Positive in their feedback for real time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39888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=&gt; Regular Pacific-wide exercises to be in real time 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marL="342720" indent="-3427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Exercise announcement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888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Issue: Insufficient time to prepare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39888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=&gt; IOC officially announce 6 months / distribute documents 3 months prior 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30120" y="151920"/>
            <a:ext cx="9080640" cy="68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Eras Bold ITC"/>
              </a:rPr>
              <a:t>PacWave08 Lessons Learned for PacWave11 (2/4)</a:t>
            </a: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90000"/>
          </a:bodyPr>
          <a:p>
            <a:pPr marL="321120" indent="-3211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Local community preparednes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7404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Issue:  Not generally known how successful locally (timely alert and actual evacuation)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374040">
              <a:spcBef>
                <a:spcPts val="700"/>
              </a:spcBef>
              <a:buClr>
                <a:srgbClr val="000066"/>
              </a:buClr>
              <a:buFont typeface="Symbol" charset="2"/>
              <a:buChar char="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Increase emphasis on local community-based preparedness, training, and “last mile” exercises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marL="321120" indent="-3211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Tsunami plans and standard operating procedur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37404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Issue: Countries did not assemble management group during exercise (but would in a real event).  Unclear how many countries pre-determined tsunami plans.</a:t>
            </a: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 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374040">
              <a:spcBef>
                <a:spcPts val="700"/>
              </a:spcBef>
              <a:buClr>
                <a:srgbClr val="000066"/>
              </a:buClr>
              <a:buFont typeface="Symbol" charset="2"/>
              <a:buChar char="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For fast tsunami response, need end-to-end SOPs.  PTWS WG 3 to survey; if training priority, incl training budget in annual natl budget request.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30120" y="151920"/>
            <a:ext cx="9080640" cy="76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Eras Bold ITC"/>
              </a:rPr>
              <a:t>PacWave08 Lessons Learned for PacWave11 (3/4)</a:t>
            </a: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47320" y="990360"/>
            <a:ext cx="932796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93000"/>
          </a:bodyPr>
          <a:p>
            <a:pPr marL="331920" indent="-331920">
              <a:spcBef>
                <a:spcPts val="799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Warning system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86640">
              <a:spcBef>
                <a:spcPts val="799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</a:rPr>
              <a:t>Issue: Communication to local jurisdictions insufficient for immediate response of coastal communities.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  <a:p>
            <a:pPr lvl="1" marL="386640">
              <a:spcBef>
                <a:spcPts val="799"/>
              </a:spcBef>
              <a:buClr>
                <a:srgbClr val="000066"/>
              </a:buClr>
              <a:buFont typeface="Symbol" charset="2"/>
              <a:buChar char="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Conduct feasibility study to identify and evaluate relevant warning systems.  Australia (AusAID) PIC Tsunami Capacity Assessments (2009) and PTWS WG 3 survey providing input. PTWS Emergency Communications TT assist in identifying technologies available. 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30120" y="151920"/>
            <a:ext cx="9080640" cy="68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Eras Bold ITC"/>
              </a:rPr>
              <a:t>PacWave08 Lessons Learned for PacWave11 (4/4)</a:t>
            </a:r>
            <a:endParaRPr b="0" lang="en-US" sz="29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88560" y="1218960"/>
            <a:ext cx="982980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93000"/>
          </a:bodyPr>
          <a:p>
            <a:pPr marL="331920" indent="-3319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Post-exercise evaluation / Regional Recommendations in context of PTWS Medium Term Strateg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4136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Issues 1: Large number of questions unanswered so difficult to draw conclusions as part of evaluation process</a:t>
            </a: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, e.g., </a:t>
            </a:r>
            <a:r>
              <a:rPr b="1" lang="en-NZ" sz="2800" spc="-1" strike="noStrike">
                <a:solidFill>
                  <a:srgbClr val="000066"/>
                </a:solidFill>
                <a:latin typeface="Arial Unicode MS"/>
              </a:rPr>
              <a:t>regional (PTWS) common priorities of action </a:t>
            </a: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too specific / did not</a:t>
            </a:r>
            <a:r>
              <a:rPr b="1" lang="en-NZ" sz="2800" spc="-1" strike="noStrike">
                <a:solidFill>
                  <a:srgbClr val="000066"/>
                </a:solidFill>
                <a:latin typeface="Arial Unicode MS"/>
              </a:rPr>
              <a:t> address PTWS </a:t>
            </a: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MTS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44136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44136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=&gt; Simpler evaluation questionnaire / electronic online.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44136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=&gt; How to Plan, Conduct, and Evaluate Tsunami Exercises guideline (July 2011, also TOWS Inter-ICG TT)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441360">
              <a:spcBef>
                <a:spcPts val="7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=&gt; Evaluation directly correlate to - measure PTWS MTS  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marL="331920" indent="-3319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sunami Wave Exercises: Two S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7597800" y="6518160"/>
            <a:ext cx="2311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0B7C-2562-44EB-A8A3-D23DE63FD0EE}" type="slidenum">
              <a:rPr b="0" lang="en-US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20"/>
          <p:cNvGrpSpPr/>
          <p:nvPr/>
        </p:nvGrpSpPr>
        <p:grpSpPr>
          <a:xfrm>
            <a:off x="4002120" y="1503360"/>
            <a:ext cx="1901880" cy="861840"/>
            <a:chOff x="4002120" y="1503360"/>
            <a:chExt cx="1901880" cy="861840"/>
          </a:xfrm>
        </p:grpSpPr>
        <p:sp>
          <p:nvSpPr>
            <p:cNvPr id="658" name="Oval 4"/>
            <p:cNvSpPr/>
            <p:nvPr/>
          </p:nvSpPr>
          <p:spPr>
            <a:xfrm>
              <a:off x="4002120" y="1503360"/>
              <a:ext cx="1901880" cy="861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Box 5"/>
            <p:cNvSpPr/>
            <p:nvPr/>
          </p:nvSpPr>
          <p:spPr>
            <a:xfrm>
              <a:off x="4314960" y="1605600"/>
              <a:ext cx="112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TWC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Group 83"/>
          <p:cNvGrpSpPr/>
          <p:nvPr/>
        </p:nvGrpSpPr>
        <p:grpSpPr>
          <a:xfrm>
            <a:off x="1960560" y="2001960"/>
            <a:ext cx="5984640" cy="1368360"/>
            <a:chOff x="1960560" y="2001960"/>
            <a:chExt cx="5984640" cy="1368360"/>
          </a:xfrm>
        </p:grpSpPr>
        <p:grpSp>
          <p:nvGrpSpPr>
            <p:cNvPr id="661" name="Group 14"/>
            <p:cNvGrpSpPr/>
            <p:nvPr/>
          </p:nvGrpSpPr>
          <p:grpSpPr>
            <a:xfrm>
              <a:off x="1960560" y="2001960"/>
              <a:ext cx="2041560" cy="1368360"/>
              <a:chOff x="1960560" y="2001960"/>
              <a:chExt cx="2041560" cy="1368360"/>
            </a:xfrm>
          </p:grpSpPr>
          <p:sp>
            <p:nvSpPr>
              <p:cNvPr id="662" name="Straight Connector 8"/>
              <p:cNvSpPr/>
              <p:nvPr/>
            </p:nvSpPr>
            <p:spPr>
              <a:xfrm flipH="1">
                <a:off x="2981880" y="2001960"/>
                <a:ext cx="1020240" cy="99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Straight Connector 9"/>
              <p:cNvSpPr/>
              <p:nvPr/>
            </p:nvSpPr>
            <p:spPr>
              <a:xfrm flipV="1">
                <a:off x="2980080" y="2352600"/>
                <a:ext cx="252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Straight Connector 13"/>
              <p:cNvSpPr/>
              <p:nvPr/>
            </p:nvSpPr>
            <p:spPr>
              <a:xfrm flipH="1">
                <a:off x="1960560" y="2372760"/>
                <a:ext cx="1020240" cy="99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Group 16"/>
            <p:cNvGrpSpPr/>
            <p:nvPr/>
          </p:nvGrpSpPr>
          <p:grpSpPr>
            <a:xfrm>
              <a:off x="5153400" y="2350440"/>
              <a:ext cx="998280" cy="1019880"/>
              <a:chOff x="5153400" y="2350440"/>
              <a:chExt cx="998280" cy="1019880"/>
            </a:xfrm>
          </p:grpSpPr>
          <p:sp>
            <p:nvSpPr>
              <p:cNvPr id="666" name="Straight Connector 17"/>
              <p:cNvSpPr/>
              <p:nvPr/>
            </p:nvSpPr>
            <p:spPr>
              <a:xfrm>
                <a:off x="5153400" y="2350440"/>
                <a:ext cx="498960" cy="74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Straight Connector 18"/>
              <p:cNvSpPr/>
              <p:nvPr/>
            </p:nvSpPr>
            <p:spPr>
              <a:xfrm flipH="1" flipV="1">
                <a:off x="5652360" y="2611800"/>
                <a:ext cx="1080" cy="48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Straight Connector 19"/>
              <p:cNvSpPr/>
              <p:nvPr/>
            </p:nvSpPr>
            <p:spPr>
              <a:xfrm>
                <a:off x="5652720" y="2626920"/>
                <a:ext cx="498960" cy="74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29"/>
            <p:cNvGrpSpPr/>
            <p:nvPr/>
          </p:nvGrpSpPr>
          <p:grpSpPr>
            <a:xfrm>
              <a:off x="5903640" y="2001960"/>
              <a:ext cx="2041560" cy="1368360"/>
              <a:chOff x="5903640" y="2001960"/>
              <a:chExt cx="2041560" cy="1368360"/>
            </a:xfrm>
          </p:grpSpPr>
          <p:sp>
            <p:nvSpPr>
              <p:cNvPr id="670" name="Straight Connector 30"/>
              <p:cNvSpPr/>
              <p:nvPr/>
            </p:nvSpPr>
            <p:spPr>
              <a:xfrm>
                <a:off x="5903640" y="2001960"/>
                <a:ext cx="1020240" cy="99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Straight Connector 31"/>
              <p:cNvSpPr/>
              <p:nvPr/>
            </p:nvSpPr>
            <p:spPr>
              <a:xfrm flipH="1" flipV="1">
                <a:off x="6923160" y="2352600"/>
                <a:ext cx="252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Straight Connector 32"/>
              <p:cNvSpPr/>
              <p:nvPr/>
            </p:nvSpPr>
            <p:spPr>
              <a:xfrm>
                <a:off x="6924960" y="2372760"/>
                <a:ext cx="1020240" cy="99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34"/>
            <p:cNvGrpSpPr/>
            <p:nvPr/>
          </p:nvGrpSpPr>
          <p:grpSpPr>
            <a:xfrm>
              <a:off x="3724560" y="2343600"/>
              <a:ext cx="998280" cy="1019880"/>
              <a:chOff x="3724560" y="2343600"/>
              <a:chExt cx="998280" cy="1019880"/>
            </a:xfrm>
          </p:grpSpPr>
          <p:sp>
            <p:nvSpPr>
              <p:cNvPr id="674" name="Straight Connector 35"/>
              <p:cNvSpPr/>
              <p:nvPr/>
            </p:nvSpPr>
            <p:spPr>
              <a:xfrm flipH="1">
                <a:off x="4223880" y="2343600"/>
                <a:ext cx="498960" cy="74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Straight Connector 36"/>
              <p:cNvSpPr/>
              <p:nvPr/>
            </p:nvSpPr>
            <p:spPr>
              <a:xfrm flipV="1">
                <a:off x="4222800" y="2604960"/>
                <a:ext cx="1080" cy="48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Straight Connector 37"/>
              <p:cNvSpPr/>
              <p:nvPr/>
            </p:nvSpPr>
            <p:spPr>
              <a:xfrm flipH="1">
                <a:off x="3724560" y="2620080"/>
                <a:ext cx="498960" cy="74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7" name="Group 84"/>
          <p:cNvGrpSpPr/>
          <p:nvPr/>
        </p:nvGrpSpPr>
        <p:grpSpPr>
          <a:xfrm>
            <a:off x="1160640" y="3438360"/>
            <a:ext cx="7580160" cy="839880"/>
            <a:chOff x="1160640" y="3438360"/>
            <a:chExt cx="7580160" cy="839880"/>
          </a:xfrm>
        </p:grpSpPr>
        <p:grpSp>
          <p:nvGrpSpPr>
            <p:cNvPr id="678" name="Group 41"/>
            <p:cNvGrpSpPr/>
            <p:nvPr/>
          </p:nvGrpSpPr>
          <p:grpSpPr>
            <a:xfrm>
              <a:off x="1160640" y="3438360"/>
              <a:ext cx="1496880" cy="825480"/>
              <a:chOff x="1160640" y="3438360"/>
              <a:chExt cx="1496880" cy="825480"/>
            </a:xfrm>
          </p:grpSpPr>
          <p:sp>
            <p:nvSpPr>
              <p:cNvPr id="679" name="Oval 39"/>
              <p:cNvSpPr/>
              <p:nvPr/>
            </p:nvSpPr>
            <p:spPr>
              <a:xfrm>
                <a:off x="1160640" y="3452760"/>
                <a:ext cx="1496880" cy="76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Box 40"/>
              <p:cNvSpPr/>
              <p:nvPr/>
            </p:nvSpPr>
            <p:spPr>
              <a:xfrm>
                <a:off x="1223640" y="3438360"/>
                <a:ext cx="1374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ember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42"/>
            <p:cNvGrpSpPr/>
            <p:nvPr/>
          </p:nvGrpSpPr>
          <p:grpSpPr>
            <a:xfrm>
              <a:off x="3057840" y="3443400"/>
              <a:ext cx="1496880" cy="825480"/>
              <a:chOff x="3057840" y="3443400"/>
              <a:chExt cx="1496880" cy="825480"/>
            </a:xfrm>
          </p:grpSpPr>
          <p:sp>
            <p:nvSpPr>
              <p:cNvPr id="682" name="Oval 43"/>
              <p:cNvSpPr/>
              <p:nvPr/>
            </p:nvSpPr>
            <p:spPr>
              <a:xfrm>
                <a:off x="3057840" y="3457800"/>
                <a:ext cx="1496880" cy="76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TextBox 44"/>
              <p:cNvSpPr/>
              <p:nvPr/>
            </p:nvSpPr>
            <p:spPr>
              <a:xfrm>
                <a:off x="3120840" y="3443400"/>
                <a:ext cx="1374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ember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45"/>
            <p:cNvGrpSpPr/>
            <p:nvPr/>
          </p:nvGrpSpPr>
          <p:grpSpPr>
            <a:xfrm>
              <a:off x="5340240" y="3452760"/>
              <a:ext cx="1496880" cy="825480"/>
              <a:chOff x="5340240" y="3452760"/>
              <a:chExt cx="1496880" cy="825480"/>
            </a:xfrm>
          </p:grpSpPr>
          <p:sp>
            <p:nvSpPr>
              <p:cNvPr id="685" name="Oval 46"/>
              <p:cNvSpPr/>
              <p:nvPr/>
            </p:nvSpPr>
            <p:spPr>
              <a:xfrm>
                <a:off x="5340240" y="3467160"/>
                <a:ext cx="1496880" cy="76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Box 47"/>
              <p:cNvSpPr/>
              <p:nvPr/>
            </p:nvSpPr>
            <p:spPr>
              <a:xfrm>
                <a:off x="5403240" y="3452760"/>
                <a:ext cx="1374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ember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48"/>
            <p:cNvGrpSpPr/>
            <p:nvPr/>
          </p:nvGrpSpPr>
          <p:grpSpPr>
            <a:xfrm>
              <a:off x="7243920" y="3452760"/>
              <a:ext cx="1496880" cy="825480"/>
              <a:chOff x="7243920" y="3452760"/>
              <a:chExt cx="1496880" cy="825480"/>
            </a:xfrm>
          </p:grpSpPr>
          <p:sp>
            <p:nvSpPr>
              <p:cNvPr id="688" name="Oval 49"/>
              <p:cNvSpPr/>
              <p:nvPr/>
            </p:nvSpPr>
            <p:spPr>
              <a:xfrm>
                <a:off x="7243920" y="3467160"/>
                <a:ext cx="1496880" cy="76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Box 50"/>
              <p:cNvSpPr/>
              <p:nvPr/>
            </p:nvSpPr>
            <p:spPr>
              <a:xfrm>
                <a:off x="7306920" y="3452760"/>
                <a:ext cx="1374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ember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0" name="Group 86"/>
          <p:cNvGrpSpPr/>
          <p:nvPr/>
        </p:nvGrpSpPr>
        <p:grpSpPr>
          <a:xfrm>
            <a:off x="163440" y="5154480"/>
            <a:ext cx="9578880" cy="946440"/>
            <a:chOff x="163440" y="5154480"/>
            <a:chExt cx="9578880" cy="946440"/>
          </a:xfrm>
        </p:grpSpPr>
        <p:grpSp>
          <p:nvGrpSpPr>
            <p:cNvPr id="691" name="Group 51"/>
            <p:cNvGrpSpPr/>
            <p:nvPr/>
          </p:nvGrpSpPr>
          <p:grpSpPr>
            <a:xfrm>
              <a:off x="163440" y="5154480"/>
              <a:ext cx="2081880" cy="936720"/>
              <a:chOff x="163440" y="5154480"/>
              <a:chExt cx="2081880" cy="936720"/>
            </a:xfrm>
          </p:grpSpPr>
          <p:sp>
            <p:nvSpPr>
              <p:cNvPr id="692" name="Oval 52"/>
              <p:cNvSpPr/>
              <p:nvPr/>
            </p:nvSpPr>
            <p:spPr>
              <a:xfrm>
                <a:off x="163440" y="5157720"/>
                <a:ext cx="2081880" cy="933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Box 53"/>
              <p:cNvSpPr/>
              <p:nvPr/>
            </p:nvSpPr>
            <p:spPr>
              <a:xfrm>
                <a:off x="251280" y="5154480"/>
                <a:ext cx="1912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Publ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otifi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54"/>
            <p:cNvGrpSpPr/>
            <p:nvPr/>
          </p:nvGrpSpPr>
          <p:grpSpPr>
            <a:xfrm>
              <a:off x="7660440" y="5160960"/>
              <a:ext cx="2081880" cy="936720"/>
              <a:chOff x="7660440" y="5160960"/>
              <a:chExt cx="2081880" cy="936720"/>
            </a:xfrm>
          </p:grpSpPr>
          <p:sp>
            <p:nvSpPr>
              <p:cNvPr id="695" name="Oval 55"/>
              <p:cNvSpPr/>
              <p:nvPr/>
            </p:nvSpPr>
            <p:spPr>
              <a:xfrm>
                <a:off x="7660440" y="5164200"/>
                <a:ext cx="2081880" cy="933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Box 56"/>
              <p:cNvSpPr/>
              <p:nvPr/>
            </p:nvSpPr>
            <p:spPr>
              <a:xfrm>
                <a:off x="7748280" y="5160960"/>
                <a:ext cx="1912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Publ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otifi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57"/>
            <p:cNvGrpSpPr/>
            <p:nvPr/>
          </p:nvGrpSpPr>
          <p:grpSpPr>
            <a:xfrm>
              <a:off x="2672280" y="5160600"/>
              <a:ext cx="2081880" cy="936720"/>
              <a:chOff x="2672280" y="5160600"/>
              <a:chExt cx="2081880" cy="936720"/>
            </a:xfrm>
          </p:grpSpPr>
          <p:sp>
            <p:nvSpPr>
              <p:cNvPr id="698" name="Oval 58"/>
              <p:cNvSpPr/>
              <p:nvPr/>
            </p:nvSpPr>
            <p:spPr>
              <a:xfrm>
                <a:off x="2672280" y="5163840"/>
                <a:ext cx="2081880" cy="933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Box 59"/>
              <p:cNvSpPr/>
              <p:nvPr/>
            </p:nvSpPr>
            <p:spPr>
              <a:xfrm>
                <a:off x="2760120" y="5160600"/>
                <a:ext cx="1912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Publ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otifi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60"/>
            <p:cNvGrpSpPr/>
            <p:nvPr/>
          </p:nvGrpSpPr>
          <p:grpSpPr>
            <a:xfrm>
              <a:off x="5158440" y="5164200"/>
              <a:ext cx="2081880" cy="936720"/>
              <a:chOff x="5158440" y="5164200"/>
              <a:chExt cx="2081880" cy="936720"/>
            </a:xfrm>
          </p:grpSpPr>
          <p:sp>
            <p:nvSpPr>
              <p:cNvPr id="701" name="Oval 61"/>
              <p:cNvSpPr/>
              <p:nvPr/>
            </p:nvSpPr>
            <p:spPr>
              <a:xfrm>
                <a:off x="5158440" y="5167440"/>
                <a:ext cx="2081880" cy="933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TextBox 62"/>
              <p:cNvSpPr/>
              <p:nvPr/>
            </p:nvSpPr>
            <p:spPr>
              <a:xfrm>
                <a:off x="5246280" y="5164200"/>
                <a:ext cx="1912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Publ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otific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3" name="Group 85"/>
          <p:cNvGrpSpPr/>
          <p:nvPr/>
        </p:nvGrpSpPr>
        <p:grpSpPr>
          <a:xfrm>
            <a:off x="1160640" y="4213080"/>
            <a:ext cx="7596000" cy="954360"/>
            <a:chOff x="1160640" y="4213080"/>
            <a:chExt cx="7596000" cy="954360"/>
          </a:xfrm>
        </p:grpSpPr>
        <p:grpSp>
          <p:nvGrpSpPr>
            <p:cNvPr id="704" name="Group 63"/>
            <p:cNvGrpSpPr/>
            <p:nvPr/>
          </p:nvGrpSpPr>
          <p:grpSpPr>
            <a:xfrm>
              <a:off x="1160640" y="4213080"/>
              <a:ext cx="736560" cy="909360"/>
              <a:chOff x="1160640" y="4213080"/>
              <a:chExt cx="736560" cy="909360"/>
            </a:xfrm>
          </p:grpSpPr>
          <p:sp>
            <p:nvSpPr>
              <p:cNvPr id="705" name="Straight Connector 64"/>
              <p:cNvSpPr/>
              <p:nvPr/>
            </p:nvSpPr>
            <p:spPr>
              <a:xfrm flipH="1">
                <a:off x="1529280" y="4213080"/>
                <a:ext cx="367920" cy="66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Straight Connector 65"/>
              <p:cNvSpPr/>
              <p:nvPr/>
            </p:nvSpPr>
            <p:spPr>
              <a:xfrm flipV="1">
                <a:off x="1528560" y="4446360"/>
                <a:ext cx="720" cy="430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Straight Connector 66"/>
              <p:cNvSpPr/>
              <p:nvPr/>
            </p:nvSpPr>
            <p:spPr>
              <a:xfrm flipH="1">
                <a:off x="1160640" y="4459320"/>
                <a:ext cx="367920" cy="66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Group 67"/>
            <p:cNvGrpSpPr/>
            <p:nvPr/>
          </p:nvGrpSpPr>
          <p:grpSpPr>
            <a:xfrm>
              <a:off x="3490200" y="4228920"/>
              <a:ext cx="367200" cy="938520"/>
              <a:chOff x="3490200" y="4228920"/>
              <a:chExt cx="367200" cy="938520"/>
            </a:xfrm>
          </p:grpSpPr>
          <p:sp>
            <p:nvSpPr>
              <p:cNvPr id="709" name="Straight Connector 68"/>
              <p:cNvSpPr/>
              <p:nvPr/>
            </p:nvSpPr>
            <p:spPr>
              <a:xfrm flipH="1">
                <a:off x="3673800" y="4228920"/>
                <a:ext cx="183600" cy="68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Straight Connector 69"/>
              <p:cNvSpPr/>
              <p:nvPr/>
            </p:nvSpPr>
            <p:spPr>
              <a:xfrm flipV="1">
                <a:off x="3673080" y="4469760"/>
                <a:ext cx="360" cy="444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Straight Connector 70"/>
              <p:cNvSpPr/>
              <p:nvPr/>
            </p:nvSpPr>
            <p:spPr>
              <a:xfrm flipH="1">
                <a:off x="3490200" y="4483080"/>
                <a:ext cx="183600" cy="68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71"/>
            <p:cNvGrpSpPr/>
            <p:nvPr/>
          </p:nvGrpSpPr>
          <p:grpSpPr>
            <a:xfrm>
              <a:off x="6151680" y="4228920"/>
              <a:ext cx="367200" cy="938520"/>
              <a:chOff x="6151680" y="4228920"/>
              <a:chExt cx="367200" cy="938520"/>
            </a:xfrm>
          </p:grpSpPr>
          <p:sp>
            <p:nvSpPr>
              <p:cNvPr id="713" name="Straight Connector 72"/>
              <p:cNvSpPr/>
              <p:nvPr/>
            </p:nvSpPr>
            <p:spPr>
              <a:xfrm>
                <a:off x="6151680" y="4228920"/>
                <a:ext cx="183600" cy="68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Straight Connector 73"/>
              <p:cNvSpPr/>
              <p:nvPr/>
            </p:nvSpPr>
            <p:spPr>
              <a:xfrm flipH="1" flipV="1">
                <a:off x="6335640" y="4469760"/>
                <a:ext cx="360" cy="444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Straight Connector 74"/>
              <p:cNvSpPr/>
              <p:nvPr/>
            </p:nvSpPr>
            <p:spPr>
              <a:xfrm>
                <a:off x="6335280" y="4483080"/>
                <a:ext cx="183600" cy="68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75"/>
            <p:cNvGrpSpPr/>
            <p:nvPr/>
          </p:nvGrpSpPr>
          <p:grpSpPr>
            <a:xfrm>
              <a:off x="8020080" y="4243320"/>
              <a:ext cx="736560" cy="909360"/>
              <a:chOff x="8020080" y="4243320"/>
              <a:chExt cx="736560" cy="909360"/>
            </a:xfrm>
          </p:grpSpPr>
          <p:sp>
            <p:nvSpPr>
              <p:cNvPr id="717" name="Straight Connector 76"/>
              <p:cNvSpPr/>
              <p:nvPr/>
            </p:nvSpPr>
            <p:spPr>
              <a:xfrm>
                <a:off x="8020080" y="4243320"/>
                <a:ext cx="367920" cy="66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Straight Connector 77"/>
              <p:cNvSpPr/>
              <p:nvPr/>
            </p:nvSpPr>
            <p:spPr>
              <a:xfrm flipH="1" flipV="1">
                <a:off x="8388000" y="4476600"/>
                <a:ext cx="720" cy="430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Straight Connector 78"/>
              <p:cNvSpPr/>
              <p:nvPr/>
            </p:nvSpPr>
            <p:spPr>
              <a:xfrm>
                <a:off x="8388720" y="4489560"/>
                <a:ext cx="367920" cy="66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0" name="TextBox 87"/>
          <p:cNvSpPr/>
          <p:nvPr/>
        </p:nvSpPr>
        <p:spPr>
          <a:xfrm>
            <a:off x="8245800" y="1530360"/>
            <a:ext cx="12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Stag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Box 89"/>
          <p:cNvSpPr/>
          <p:nvPr/>
        </p:nvSpPr>
        <p:spPr>
          <a:xfrm>
            <a:off x="8245800" y="6256440"/>
            <a:ext cx="125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f6228"/>
                </a:solidFill>
                <a:latin typeface="Calibri"/>
              </a:rPr>
              <a:t>Stag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90"/>
          <p:cNvSpPr/>
          <p:nvPr/>
        </p:nvSpPr>
        <p:spPr>
          <a:xfrm>
            <a:off x="131760" y="1417680"/>
            <a:ext cx="9642600" cy="2495520"/>
          </a:xfrm>
          <a:prstGeom prst="rect">
            <a:avLst/>
          </a:prstGeom>
          <a:solidFill>
            <a:srgbClr val="215968">
              <a:alpha val="50000"/>
            </a:srgbClr>
          </a:solidFill>
          <a:ln cap="rnd"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91"/>
          <p:cNvSpPr/>
          <p:nvPr/>
        </p:nvSpPr>
        <p:spPr>
          <a:xfrm>
            <a:off x="131760" y="3913200"/>
            <a:ext cx="9642600" cy="2841480"/>
          </a:xfrm>
          <a:prstGeom prst="rect">
            <a:avLst/>
          </a:prstGeom>
          <a:solidFill>
            <a:srgbClr val="4f6228">
              <a:alpha val="50000"/>
            </a:srgbClr>
          </a:solidFill>
          <a:ln cap="rnd"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30120" y="151920"/>
            <a:ext cx="9080640" cy="68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Eras Bold ITC"/>
              </a:rPr>
              <a:t>PacWave11 – Date and Objective 1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28600" y="990360"/>
            <a:ext cx="932832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88000"/>
          </a:bodyPr>
          <a:p>
            <a:pPr marL="313920" indent="-3139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IOC Circular Letter 2390 issued 13 May 2011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0400" indent="-262440">
              <a:spcBef>
                <a:spcPts val="700"/>
              </a:spcBef>
              <a:buClr>
                <a:srgbClr val="ff0000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9-10 Nov 2011 - multi-scenario local / regional </a:t>
            </a: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tsunami; during APEC offering high visibility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680400" indent="-262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Nominate PacWave11 focal point by 10 June 2011.   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marL="313920" indent="-3139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Unicode MS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3920" indent="-3139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 Unicode MS"/>
              </a:rPr>
              <a:t>1. To validate understanding and use of PTWS Experimental Products.  Proposed to be tested in PacWave11 through 201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0400" indent="-262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 Unicode MS"/>
              </a:rPr>
              <a:t>Utilise PTWC experimental products, incl forecast models /science info =&gt; timely hazard assessment.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680400" indent="-262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 Unicode MS"/>
              </a:rPr>
              <a:t>Validate advice issuance from PTWC JMA/NWPTAC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680400" indent="-26244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 Unicode MS"/>
              </a:rPr>
              <a:t>Validate advice receipt by Pacific country TWFPs.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30120" y="151920"/>
            <a:ext cx="9080640" cy="68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Eras Bold ITC"/>
              </a:rPr>
              <a:t>PacWave11 – Objective 2</a:t>
            </a:r>
            <a:endParaRPr b="0" lang="en-US" sz="3200" spc="-1" strike="noStrike">
              <a:solidFill>
                <a:srgbClr val="000066"/>
              </a:solidFill>
              <a:latin typeface="Eras Bold ITC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47320" y="990360"/>
            <a:ext cx="9658440" cy="5181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rmAutofit fontScale="93000"/>
          </a:bodyPr>
          <a:p>
            <a:pPr marL="331920" indent="-3319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 Unicode MS"/>
              </a:rPr>
              <a:t>Objective 2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1920" indent="-331920">
              <a:spcBef>
                <a:spcPts val="700"/>
              </a:spcBef>
              <a:buClr>
                <a:srgbClr val="ff0000"/>
              </a:buClr>
              <a:buFont typeface="Arial Unicode MS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Arial Unicode MS"/>
              </a:rPr>
              <a:t>To validate readiness for local/regional source tsunami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 Unicode MS"/>
              </a:rPr>
              <a:t>Improve operational readiness (ensure appropriate tools / response plan(s), incl public education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 Unicode MS"/>
              </a:rPr>
              <a:t>Conduct pre-exercise public education on response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 Unicode MS"/>
              </a:rPr>
              <a:t>Validate dissemination of NTWC in-country agencies.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 Unicode MS"/>
              </a:rPr>
              <a:t>Validate decision-making on warnings / evacuations.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 Unicode MS"/>
              </a:rPr>
              <a:t>Validate methods to notify and instruct public.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 Unicode MS"/>
              </a:rPr>
              <a:t>Assess elapsed time until public </a:t>
            </a:r>
            <a:r>
              <a:rPr b="1" lang="en-US" sz="2800" spc="-1" strike="noStrike">
                <a:solidFill>
                  <a:srgbClr val="000066"/>
                </a:solidFill>
                <a:latin typeface="Arial Unicode MS"/>
              </a:rPr>
              <a:t>notified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  <a:p>
            <a:pPr lvl="1" marL="718920" indent="-277200">
              <a:spcBef>
                <a:spcPts val="700"/>
              </a:spcBef>
              <a:buClr>
                <a:srgbClr val="000066"/>
              </a:buClr>
              <a:buFont typeface="Arial Unicode MS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 Unicode MS"/>
              </a:rPr>
              <a:t>Validate public information material – Useable/actionable, clear, concise and timely.</a:t>
            </a:r>
            <a:endParaRPr b="0" lang="en-US" sz="28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3:33:23Z</dcterms:created>
  <dc:creator>pancake</dc:creator>
  <dc:description/>
  <dc:language>en-US</dc:language>
  <cp:lastModifiedBy>Laura Kong</cp:lastModifiedBy>
  <cp:lastPrinted>2009-08-25T18:01:49Z</cp:lastPrinted>
  <dcterms:modified xsi:type="dcterms:W3CDTF">2011-07-21T07:07:25Z</dcterms:modified>
  <cp:revision>483</cp:revision>
  <dc:subject/>
  <dc:title>The Consolidated IT Pilot –  How it went, and What we propose next</dc:title>
</cp:coreProperties>
</file>