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5FFC-39D1-410D-AA8F-12E2978A6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0237-5A78-46D0-92C6-B67F34C8A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408D-710F-4929-8FEE-E0BE6D37C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F4B3-216D-42FB-97A9-81722A2AF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3F189-7E35-456E-B067-AF809910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E14EA-2F48-4429-AAA6-2C40B54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A9CA1-823C-4073-B6AF-5BBDB19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7883-E143-4817-803C-2C8A375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6D21-8056-49C5-9E67-90075112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DB85-F834-4031-9AC0-1EF7C948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49C4A-C3B2-42EB-BC66-A5E001C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7777-9A86-4B65-855D-68A6679A0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E43E-E148-48C9-8CD0-43BF12D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36E1-3B8B-4CEA-AECB-B04E9B6D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C72FC-91FE-4769-B62A-B611D61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5689-0064-4A20-9B02-E4C356C1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2DF7-E2F0-44D8-9C14-14648FD1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BCD8-6890-4031-9D83-3A7DD8B5A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A5AF-684A-4B04-9AE8-11AD077B2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3A66-B678-4E37-8C9B-118F1B3FA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4A5C-E13B-4E37-BCBE-0FDAA8B97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4764-FC2B-430A-ADAC-AEF851B96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AB50-3E13-47CE-9810-58BC4180A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0915-DF0E-4A24-B057-5403C63A3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90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9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597360"/>
            <a:ext cx="5435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ffffd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d9"/>
                </a:solidFill>
                <a:latin typeface="Times New Roman"/>
              </a:rPr>
              <a:t>&lt;footer&gt;</a:t>
            </a:r>
            <a:r>
              <a:rPr b="1" lang="en-AU" sz="1200" spc="-1" strike="noStrike">
                <a:solidFill>
                  <a:srgbClr val="ffffd9"/>
                </a:solidFill>
                <a:latin typeface="Times New Roman"/>
              </a:rPr>
              <a:t>ICG/PTWS-XXII, Guayaquil, Ecuador, 17-20 Septemb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84720" y="188640"/>
            <a:ext cx="112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289-58DD-4759-98E1-FB1ECD849B0D}" type="slidenum">
              <a:rPr b="1" lang="en-US" sz="16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GNS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2782800"/>
            <a:ext cx="9144000" cy="216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04000" y="4941720"/>
            <a:ext cx="944640" cy="1586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36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9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50560" y="6138360"/>
            <a:ext cx="432108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50560" y="6453000"/>
            <a:ext cx="5769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d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84720" y="188640"/>
            <a:ext cx="112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6FA3-F781-4FC8-9367-26F804C3ACE6}" type="slidenum">
              <a:rPr b="1" lang="en-US" sz="16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9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ffffd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9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d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d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d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d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d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d9"/>
                </a:solidFill>
                <a:latin typeface="Arial"/>
              </a:rPr>
              <a:t>SWP-TWG</a:t>
            </a:r>
            <a:br>
              <a:rPr sz="2800"/>
            </a:br>
            <a:r>
              <a:rPr b="1" lang="en-NZ" sz="2800" spc="-1" strike="noStrike">
                <a:solidFill>
                  <a:srgbClr val="ffffd9"/>
                </a:solidFill>
                <a:latin typeface="Arial"/>
              </a:rPr>
              <a:t>Report to ICG/PTWS-XXII</a:t>
            </a:r>
            <a:r>
              <a:rPr b="1" lang="en-AU" sz="2000" spc="-1" strike="noStrike">
                <a:solidFill>
                  <a:srgbClr val="fc92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5600" y="2852280"/>
            <a:ext cx="7088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4040" y="3425040"/>
            <a:ext cx="363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d9"/>
                </a:solidFill>
                <a:latin typeface="Arial"/>
              </a:rPr>
              <a:t>Ken Gled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d9"/>
                </a:solidFill>
                <a:latin typeface="Arial"/>
              </a:rPr>
              <a:t>GeoNet Projec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d9"/>
                </a:solidFill>
                <a:latin typeface="Arial"/>
              </a:rPr>
              <a:t>GNS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7"/>
                </a:solidFill>
                <a:latin typeface="Arial"/>
              </a:rPr>
              <a:t>The Working Group invites comment from the Group on the following:</a:t>
            </a:r>
            <a:br>
              <a:rPr sz="2800"/>
            </a:b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65480" indent="-465480">
              <a:spcBef>
                <a:spcPts val="550"/>
              </a:spcBef>
              <a:spcAft>
                <a:spcPts val="550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9"/>
                </a:solidFill>
                <a:latin typeface="Arial"/>
              </a:rPr>
              <a:t>What should the shape of a tsunami warning system in the SWP be in future?</a:t>
            </a:r>
            <a:endParaRPr b="1" lang="en-US" sz="2200" spc="-1" strike="noStrike">
              <a:solidFill>
                <a:srgbClr val="ffffd9"/>
              </a:solidFill>
              <a:latin typeface="Arial"/>
            </a:endParaRPr>
          </a:p>
          <a:p>
            <a:pPr marL="465480" indent="-465480">
              <a:spcBef>
                <a:spcPts val="550"/>
              </a:spcBef>
              <a:spcAft>
                <a:spcPts val="550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9"/>
                </a:solidFill>
                <a:latin typeface="Arial"/>
              </a:rPr>
              <a:t>Should the function become a part of one of the existing or developing warning centres, or is a separate centre required?  </a:t>
            </a:r>
            <a:endParaRPr b="1" lang="en-US" sz="2200" spc="-1" strike="noStrike">
              <a:solidFill>
                <a:srgbClr val="ffffd9"/>
              </a:solidFill>
              <a:latin typeface="Arial"/>
            </a:endParaRPr>
          </a:p>
          <a:p>
            <a:pPr marL="465480" indent="-465480">
              <a:spcBef>
                <a:spcPts val="550"/>
              </a:spcBef>
              <a:spcAft>
                <a:spcPts val="550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9"/>
                </a:solidFill>
                <a:latin typeface="Arial"/>
              </a:rPr>
              <a:t>The "Strategy for Enhancing Early Warning for Pacific Island Countries" suggests that this function can be carried out by a coordination of national capability.  Is this a good approach?</a:t>
            </a:r>
            <a:endParaRPr b="1" lang="en-US" sz="2200" spc="-1" strike="noStrike">
              <a:solidFill>
                <a:srgbClr val="ffffd9"/>
              </a:solidFill>
              <a:latin typeface="Arial"/>
            </a:endParaRPr>
          </a:p>
          <a:p>
            <a:pPr marL="465480" indent="-465480">
              <a:spcBef>
                <a:spcPts val="550"/>
              </a:spcBef>
              <a:spcAft>
                <a:spcPts val="550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9"/>
                </a:solidFill>
                <a:latin typeface="Arial"/>
              </a:rPr>
              <a:t>How should the business of the PTWS/SWP-TWG be funded (meetings, secretariat, etc.), and how should it be organised?  </a:t>
            </a:r>
            <a:endParaRPr b="1" lang="en-US" sz="2200" spc="-1" strike="noStrike">
              <a:solidFill>
                <a:srgbClr val="ffffd9"/>
              </a:solidFill>
              <a:latin typeface="Arial"/>
            </a:endParaRPr>
          </a:p>
          <a:p>
            <a:pPr marL="465480" indent="-465480">
              <a:spcBef>
                <a:spcPts val="550"/>
              </a:spcBef>
              <a:spcAft>
                <a:spcPts val="550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9"/>
                </a:solidFill>
                <a:latin typeface="Arial"/>
              </a:rPr>
              <a:t>What should the relationship be, for example, between this working group and SOPAC?</a:t>
            </a:r>
            <a:endParaRPr b="1" lang="en-US" sz="2200" spc="-1" strike="noStrike">
              <a:solidFill>
                <a:srgbClr val="ffffd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7"/>
                </a:solidFill>
                <a:latin typeface="Arial"/>
              </a:rPr>
              <a:t>The Sessional Working Group Report (1)</a:t>
            </a:r>
            <a:br>
              <a:rPr sz="2800"/>
            </a:b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9"/>
                </a:solidFill>
                <a:latin typeface="Arial"/>
              </a:rPr>
              <a:t>What should the shape of a tsunami warning system in the SWP be in future? </a:t>
            </a:r>
            <a:r>
              <a:rPr b="1" lang="en-US" sz="2400" spc="-1" strike="noStrike">
                <a:solidFill>
                  <a:srgbClr val="ffff2f"/>
                </a:solidFill>
                <a:latin typeface="Arial"/>
              </a:rPr>
              <a:t>Too early to decide? Working Group role should be coordination and facilitation.</a:t>
            </a: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9"/>
                </a:solidFill>
                <a:latin typeface="Arial"/>
              </a:rPr>
              <a:t>What should the relationship be, for example, between this working group and SOPAC? </a:t>
            </a:r>
            <a:r>
              <a:rPr b="1" lang="en-US" sz="2400" spc="-1" strike="noStrike">
                <a:solidFill>
                  <a:srgbClr val="ffff2f"/>
                </a:solidFill>
                <a:latin typeface="Arial"/>
              </a:rPr>
              <a:t>Will work very closely with SOPAC, with the possibility of SOPAC providing </a:t>
            </a:r>
            <a:r>
              <a:rPr b="1" lang="en-AU" sz="2400" spc="-1" strike="noStrike">
                <a:solidFill>
                  <a:srgbClr val="ffff2f"/>
                </a:solidFill>
                <a:latin typeface="Arial"/>
              </a:rPr>
              <a:t>providing logics and secretarial service</a:t>
            </a:r>
            <a:r>
              <a:rPr b="1" lang="en-US" sz="2400" spc="-1" strike="noStrike">
                <a:solidFill>
                  <a:srgbClr val="ffff2f"/>
                </a:solidFill>
                <a:latin typeface="Arial"/>
              </a:rPr>
              <a:t>s (funding required).</a:t>
            </a: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d9"/>
                </a:solidFill>
                <a:latin typeface="Arial"/>
              </a:rPr>
              <a:t>Status of gaps analysis? </a:t>
            </a:r>
            <a:r>
              <a:rPr b="1" lang="en-NZ" sz="2400" spc="-1" strike="noStrike">
                <a:solidFill>
                  <a:srgbClr val="ffff2f"/>
                </a:solidFill>
                <a:latin typeface="Arial"/>
              </a:rPr>
              <a:t>Gaps analysis and network design still needs to be done.</a:t>
            </a:r>
            <a:r>
              <a:rPr b="1" lang="en-NZ" sz="2400" spc="-1" strike="noStrike">
                <a:solidFill>
                  <a:srgbClr val="ffffd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ff2f"/>
                </a:solidFill>
                <a:latin typeface="Arial"/>
              </a:rPr>
              <a:t>France introduced plans for new sea level stations and (US) DART buoy location; Australian stations continue to be build in the region but issues with MOUs continue; China is providing funds for seismograph stations.</a:t>
            </a: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d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63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2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2f"/>
                </a:solidFill>
                <a:latin typeface="Arial"/>
              </a:rPr>
              <a:t>Donor coordination remains an issue. This includes getting stations interconnected and making sure the data is available to Warning Centres and regionally.</a:t>
            </a:r>
            <a:endParaRPr b="1" lang="en-US" sz="3000" spc="-1" strike="noStrike">
              <a:solidFill>
                <a:srgbClr val="ffffd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2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2f"/>
                </a:solidFill>
                <a:latin typeface="Arial"/>
              </a:rPr>
              <a:t>Working Group should continue with revised TOR (see recommendation); TORs should be extended to include education. The close relationship with SOPAC should be formalised</a:t>
            </a:r>
            <a:r>
              <a:rPr b="1" lang="en-NZ" sz="2600" spc="-1" strike="noStrike">
                <a:solidFill>
                  <a:srgbClr val="ffff2f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d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7"/>
                </a:solidFill>
                <a:latin typeface="Arial"/>
              </a:rPr>
              <a:t>The Sessional Working Group Report (1)</a:t>
            </a:r>
            <a:br>
              <a:rPr sz="2800"/>
            </a:br>
            <a:endParaRPr b="1" lang="en-US" sz="2800" spc="-1" strike="noStrike">
              <a:solidFill>
                <a:srgbClr val="fc92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0:48:50Z</dcterms:created>
  <dc:creator>Lara Bland</dc:creator>
  <dc:description/>
  <dc:language>en-US</dc:language>
  <cp:lastModifiedBy>ken</cp:lastModifiedBy>
  <dcterms:modified xsi:type="dcterms:W3CDTF">2007-09-20T15:04:34Z</dcterms:modified>
  <cp:revision>309</cp:revision>
  <dc:subject/>
  <dc:title>Slide 1</dc:title>
</cp:coreProperties>
</file>